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456-4EDC-45C7-9024-ED0F0C62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CCA-6A1C-4A5F-9BE3-E4D5C050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854-4DEC-468C-9C23-2432C55B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A8E-C9E6-4DBA-A602-B7B2B6E8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12127-461B-46EB-B182-E9B5EBC7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EDBFB-5DBE-4204-AA48-78EE7B78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2036B-7FA2-4855-B687-89145041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BA3C5-22EE-4EFE-8496-2AA92148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E6592-F205-44A8-AFC6-451AD0A1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C454C-0D08-4947-9DDF-A566FDB7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B5D78-B6A2-4C18-9DDD-F361563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195-7C2A-4979-9D5A-67A8E5F7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07ACE-A3FD-4E8B-8B21-5768ABDA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E5DE5-47AE-4467-AA24-ADD1B72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DB3C1-98A3-4FB9-9F83-EB4E8BC3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DCF90-863F-4D23-9248-42C991ED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EC101-E279-4F76-AFB3-A4308DF3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4C9-96AE-479F-932A-50CAADBA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5EF-A701-4E6C-BF6B-BC109744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B03-0903-4FF3-8BE5-00DEBDD0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CE7-4449-4028-96FA-01DE1256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F40-A1C8-484F-9A00-53C36DB9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A42-EFC6-499A-9F26-D5C423EA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182-DE84-4CE6-BEFA-E660AC9F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EA82-51B4-41C0-B2E4-FD76FA2500DC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B93D-79AB-4A0F-819A-30DBDE513A8E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57200" y="6105600"/>
          <a:ext cx="743040" cy="75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6105600"/>
                    <a:ext cx="743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北區毒災應變諮詢中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038480"/>
            <a:ext cx="73152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</a:t>
            </a:r>
            <a:r>
              <a:rPr b="1" lang="zh-TW" sz="40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報告者：陳 范 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中華民國 九十一 年 八 月 二十 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之運作現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與規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毒災聯防小組之法律責任</a:t>
            </a:r>
            <a:r>
              <a:rPr b="0" lang="zh-TW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800" y="1143000"/>
            <a:ext cx="8572680" cy="54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目前並無相關法令強制加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簽署聯防支援協定，以確保聯防小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在提供互救時可獲得應有之器材與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力費用的補償，若有爭議由仲裁單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協調，提高廠商的互救意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1100160"/>
            <a:ext cx="784872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對象：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環保署與轄區縣市環保單位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其他相關政府單位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轄區運作業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二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緊急諮詢方式：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上班時間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8:00~17:30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專線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cc00"/>
                </a:solidFill>
                <a:uFillTx/>
                <a:latin typeface="Arial Narrow"/>
                <a:ea typeface="華康細圓體"/>
              </a:rPr>
              <a:t>080005711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下班時間與例假日：大哥大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952330005~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三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非緊急諮詢方式：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5917777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、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-591614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19040" y="0"/>
            <a:ext cx="665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中心緊急諮詢服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86080" y="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一般諮詢服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836640"/>
            <a:ext cx="7921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需要提供毒性化學物質的物質安全資料表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MSDS)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、防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手冊、毒理相關資料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需要提供北區毒災應變諮詢中心的應變流程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SOP)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與服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內容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提供毒性化學物質運作工廠的危害預防應變作業要點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劃、偵測警報建置與選擇、緊急應變工具與裝備的選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提供毒災應變訓練課程與教材，演練腳本的提供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其他諮詢服務，如：毒性化學物質種類判定、聯防小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的編組方式與法律效力、毒化物廢棄處理方式與後續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運廠商、無預警測試的方式與日期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905120" y="923760"/>
          <a:ext cx="3835440" cy="50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923760"/>
                    <a:ext cx="383544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334120" y="1228680"/>
            <a:ext cx="1066680" cy="6764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1752480"/>
            <a:ext cx="190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全真標準楷書"/>
                <a:ea typeface="華康細圓體"/>
              </a:rPr>
              <a:t>基隆市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105520" y="2857680"/>
            <a:ext cx="1295280" cy="2664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9718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全真標準楷書"/>
                <a:ea typeface="華康細圓體"/>
              </a:rPr>
              <a:t>花蓮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2209680"/>
            <a:ext cx="1981080" cy="9907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971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苗栗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361960" y="1609560"/>
            <a:ext cx="2057400" cy="3715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82880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新竹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3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657240" y="1219320"/>
            <a:ext cx="12193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981080"/>
            <a:ext cx="914400" cy="6098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23623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宜蘭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09320" y="1447920"/>
            <a:ext cx="2210040" cy="1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桃園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7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990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台北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2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整合後的毒災聯防小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105160" y="1219320"/>
            <a:ext cx="14475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066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台北市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590560" y="1752480"/>
            <a:ext cx="1600200" cy="685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新竹市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4508640"/>
            <a:ext cx="406728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北區共有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383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家廠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               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劃分為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18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國外聯防組織的編組方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240" y="990720"/>
            <a:ext cx="79218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以區域性來編組：如相同工業區、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近城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二、以運作相同的化學品來編組：如氯氣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TDI(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此大部分為運輸需求，如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CHLOR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SMA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三、工會組織的方式：如化工業、責任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顧協會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TR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的角色定位</a:t>
            </a:r>
            <a:r>
              <a:rPr b="1" lang="zh-TW" sz="4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685800"/>
            <a:ext cx="815328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應變工具與個人防護裝備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應變專家技術諮詢提供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三、應變人力的提供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的落實</a:t>
            </a:r>
            <a:r>
              <a:rPr b="1" lang="zh-TW" sz="4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680" y="509760"/>
            <a:ext cx="8572320" cy="58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各廠商可提供應變工具與個人防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裝備的資料更新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種類、廠牌、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量等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各廠商二十四小時聯絡窗口與應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專家建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三、資料可上網，以權限及密碼來查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管理及資料更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的落實</a:t>
            </a:r>
            <a:r>
              <a:rPr b="1" lang="zh-TW" sz="4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680" y="509760"/>
            <a:ext cx="857232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四、聯防支援協定的簽署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權利與義務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聯防小組的組織架構及工作規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的時機及表格文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的角色定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的人力費用及設備費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5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使用後歸還的機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6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仲裁單位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環保、消防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.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毒災聯防小組的訓練規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33520"/>
            <a:ext cx="8572680" cy="69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透過縣市環保單位定期舉辦會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與訓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毒災應變諮詢中心規劃有系統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教育訓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三、定期舉辦毒災應變演練觀摩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十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底於新竹縣、十一月底於桃園縣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四、定期提供簡訊與演練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VC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01:20:15Z</dcterms:created>
  <dc:creator>aaa</dc:creator>
  <dc:description/>
  <dc:language>en-US</dc:language>
  <cp:lastModifiedBy>aaa</cp:lastModifiedBy>
  <dcterms:modified xsi:type="dcterms:W3CDTF">2002-12-30T05:09:29Z</dcterms:modified>
  <cp:revision>55</cp:revision>
  <dc:subject/>
  <dc:title>PowerPoint 簡報</dc:title>
</cp:coreProperties>
</file>