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6A4-6D70-429F-8CB0-8DBC5F1F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AE6-B5A9-443F-8488-FFA622F7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96F-3810-4C77-8281-73E3DDDF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FBB-9D0B-4939-8AD9-0E9B9AAF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334-3D86-40C2-A49C-BE386C5E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EB8-9870-4C01-BC2B-649224F7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449-CEB0-436F-9822-058434E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691-2BA0-4C5D-A03C-391DD9B9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8A3-AE8A-4FD8-A5DD-F900CC9B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1E9-6646-4AAF-8DF4-6E50D12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2EB-B964-408E-BA87-57EF4BE7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AF9-40D2-45C6-B394-7732AA9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078A-C1A3-42D8-89D1-2EF89C8CA46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19000"/>
          <a:ext cx="1752840" cy="76212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環保署毒管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消防署應變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09480" y="2857680"/>
          <a:ext cx="1676520" cy="9144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北、中、南區稽查大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93640" y="4991040"/>
          <a:ext cx="1524240" cy="68580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縣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市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環保局、消防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638680" y="819000"/>
          <a:ext cx="1904760" cy="838080"/>
        </p:xfrm>
        <a:graphic>
          <a:graphicData uri="http://schemas.openxmlformats.org/drawingml/2006/table">
            <a:tbl>
              <a:tblPr/>
              <a:tblGrid>
                <a:gridCol w="190476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防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483080" y="2349360"/>
          <a:ext cx="3581280" cy="72396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陸軍總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733920" y="3695760"/>
          <a:ext cx="2438280" cy="6858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作戰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33920" y="5981760"/>
          <a:ext cx="2438280" cy="62856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各作戰分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934320" y="3695760"/>
          <a:ext cx="1752480" cy="7999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快速研判小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819520" y="1143000"/>
            <a:ext cx="2819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61960" y="1143000"/>
            <a:ext cx="2971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752480"/>
            <a:ext cx="1440" cy="111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447920" y="156168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3815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447920" y="377208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628668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5200560"/>
            <a:ext cx="1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952880" y="4381560"/>
            <a:ext cx="18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24400" y="5413320"/>
            <a:ext cx="21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59520" y="3076560"/>
            <a:ext cx="1440" cy="59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700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315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5373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研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46040" y="44578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187680" y="4076640"/>
            <a:ext cx="70164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51080" y="2946240"/>
            <a:ext cx="7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173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19320" y="1066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82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64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毒化災害國軍處理作業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467480" y="4495320"/>
            <a:ext cx="0" cy="152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5410080"/>
            <a:ext cx="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0" y="6019920"/>
          <a:ext cx="1752480" cy="5328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偵消小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133720" y="5334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334120"/>
            <a:ext cx="0" cy="9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032360"/>
            <a:ext cx="0" cy="145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038480"/>
            <a:ext cx="6793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4320" y="45784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40320" y="1676160"/>
            <a:ext cx="1800" cy="63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095880" y="1676160"/>
            <a:ext cx="1800" cy="63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951440" y="3092400"/>
            <a:ext cx="1440" cy="59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3154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2840" y="5194440"/>
            <a:ext cx="14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22840" y="437472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5920" y="441972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1840" y="4229280"/>
            <a:ext cx="701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4480" y="4191120"/>
            <a:ext cx="7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467480" y="3099960"/>
            <a:ext cx="1800" cy="56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29240" y="3176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94640" y="3095280"/>
            <a:ext cx="144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88080" y="3213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90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連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772400" y="4495320"/>
            <a:ext cx="0" cy="152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47920" y="4489560"/>
            <a:ext cx="45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連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6324480"/>
            <a:ext cx="6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51:39Z</dcterms:created>
  <dc:creator>戰情官</dc:creator>
  <dc:description/>
  <dc:language>en-US</dc:language>
  <cp:lastModifiedBy>chem3-7</cp:lastModifiedBy>
  <dcterms:modified xsi:type="dcterms:W3CDTF">2001-10-06T07:33:25Z</dcterms:modified>
  <cp:revision>7</cp:revision>
  <dc:subject/>
  <dc:title>PowerPoint 簡報</dc:title>
</cp:coreProperties>
</file>