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9144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E4E-16BE-4E3E-B1BA-F875666B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615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5507640"/>
            <a:ext cx="615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830-296B-40C2-A0FD-C9C4D5C7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09A-64D6-40B2-AE01-81ED2CBF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264168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264168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550764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550764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550764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657-D45D-4DD3-B9BA-ACDA08B3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2641680"/>
            <a:ext cx="615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78F-32F9-4BDE-93AF-3D744ABA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615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522-0BCE-4437-8832-82DA9178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BFF-0D1E-4E26-9ABF-A2B096E4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2BD-1994-4336-9674-0656106E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812520"/>
            <a:ext cx="6153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D4A-9A03-491D-8E88-FE2CF7ED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9B0-E2E2-48A7-B08F-9E4DB6F5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860-2CBF-433A-BCD4-8533E250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5507640"/>
            <a:ext cx="615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35F-7E49-4E1C-9370-4B2B8DAD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2641680"/>
            <a:ext cx="615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8331120"/>
            <a:ext cx="1508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8331120"/>
            <a:ext cx="2292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8331120"/>
            <a:ext cx="1508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DA3F-CAA5-487A-B392-51B153BC77E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5029200" y="572616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701028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97120" y="2800440"/>
            <a:ext cx="2232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5022720" y="426708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282564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368000" y="426708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368000" y="840096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010120" y="845820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86280" y="554976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0440" y="413388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1920" y="1123920"/>
            <a:ext cx="2897280" cy="690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               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29400" y="114300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救援部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1920" y="2509920"/>
            <a:ext cx="2897280" cy="690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變中心編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2520" y="2859120"/>
            <a:ext cx="78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1920" y="3895560"/>
            <a:ext cx="2897280" cy="698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災情蒐整及研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600" y="3935520"/>
            <a:ext cx="1258920" cy="576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方政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  廠  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3911760"/>
            <a:ext cx="1258920" cy="576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 料 庫 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一線部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25588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51520" y="25210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戒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9304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查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51520" y="38098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確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1920" y="5289480"/>
            <a:ext cx="2897280" cy="698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諮詢與指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0600" y="5315040"/>
            <a:ext cx="1258920" cy="576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工研院、環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署 諮 詢 顧 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9400" y="529596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陸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諮詢小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51520" y="520056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指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1920" y="6683400"/>
            <a:ext cx="2897280" cy="698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完成作業準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600" y="6694560"/>
            <a:ext cx="1258920" cy="576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央災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變中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29400" y="668016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援中心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現場指揮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28840" y="53020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1920" y="8077320"/>
            <a:ext cx="2897280" cy="690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展開應援作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0600" y="8074080"/>
            <a:ext cx="1258920" cy="576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方災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變中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9400" y="806436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任務部隊馳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後續部隊增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8840" y="807732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52960" y="812160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52960" y="842652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47680"/>
            <a:ext cx="4665600" cy="609480"/>
          </a:xfrm>
          <a:prstGeom prst="rect">
            <a:avLst/>
          </a:prstGeom>
          <a:solidFill>
            <a:srgbClr val="3333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imes New Roman"/>
                <a:ea typeface="超研澤粗楷"/>
              </a:rPr>
              <a:t>毒化災害應變作業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0600" y="2556000"/>
            <a:ext cx="1258920" cy="57600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環保署、消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署與地方政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600" y="1176480"/>
            <a:ext cx="1258920" cy="576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機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9400" y="252720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作   戰   區  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區責任部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51520" y="422424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9280" y="701028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22360" y="6673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41800" y="6661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指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9440" y="47242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19440" y="61056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00360" y="32767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19440" y="750564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71600" y="5638680"/>
            <a:ext cx="78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57640" y="56833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5:02:09Z</dcterms:created>
  <dc:creator>chem3-3</dc:creator>
  <dc:description/>
  <dc:language>en-US</dc:language>
  <cp:lastModifiedBy>chem3-7</cp:lastModifiedBy>
  <dcterms:modified xsi:type="dcterms:W3CDTF">2001-10-06T07:53:04Z</dcterms:modified>
  <cp:revision>15</cp:revision>
  <dc:subject/>
  <dc:title>PowerPoint 簡報</dc:title>
</cp:coreProperties>
</file>