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531E-9D9F-44ED-86BB-BDC6D7A2D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6680" y="40802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9488-9CBD-4072-8B8D-E07364289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9360" y="22093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40802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9360" y="40802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5ADD-9066-434D-B839-026C2A77D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94680" y="22093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22320" y="22093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6680" y="40802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94680" y="40802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22320" y="40802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AE17-F4C5-4DAF-A48D-A31F5D52F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6680" y="22093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787F-9556-4DC0-87B5-4EA2A9897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5E27-AD42-438E-BAA8-522FA7EF2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22093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8EBC-BDFB-4C50-A17D-2051F4CA6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8A3E-118C-40E7-ABB8-5061D5930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0351-26F3-4E1E-A6CB-ADE1945D5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2093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40802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8C23-6DB0-4084-A4C3-21381F7ED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9360" y="22093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9360" y="40802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6669-CE31-4ABF-B48A-1E00D020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9360" y="22093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680" y="40802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71A7-3D6E-423D-A2BF-CDF5EA63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22093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89548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A4537-F655-40A9-AD4A-F6095D2F0B1F}" type="slidenum">
              <a:rPr b="0" lang="zh-TW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295280" y="914400"/>
            <a:ext cx="6629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019920"/>
            <a:ext cx="83059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705000" y="6095880"/>
            <a:ext cx="534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000" spc="-1" strike="noStrike">
                <a:solidFill>
                  <a:srgbClr val="3399ff"/>
                </a:solidFill>
                <a:latin typeface="華康粗黑體"/>
                <a:ea typeface="華康粗黑體"/>
              </a:rPr>
              <a:t>工業技術研究院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791760" y="6248520"/>
            <a:ext cx="793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" spc="-1" strike="noStrike">
                <a:solidFill>
                  <a:srgbClr val="3399ff"/>
                </a:solidFill>
                <a:latin typeface="華康中黑體"/>
                <a:ea typeface="華康中黑體"/>
              </a:rPr>
              <a:t>環境與安全衛生技術發展中心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580800" y="6370560"/>
            <a:ext cx="2075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99ff"/>
                </a:solidFill>
                <a:latin typeface="Bookman Old Style"/>
              </a:rPr>
              <a:t>Industrial Technology Research Institut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527880" y="6508800"/>
            <a:ext cx="2311200" cy="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3399ff"/>
                </a:solidFill>
                <a:latin typeface="Times New Roman"/>
              </a:rPr>
              <a:t>Center for Environmental Safety &amp; Health Technology Development</a:t>
            </a:r>
            <a:endParaRPr b="0" lang="en-US" sz="6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1" name=""/>
          <p:cNvGraphicFramePr/>
          <p:nvPr/>
        </p:nvGraphicFramePr>
        <p:xfrm>
          <a:off x="6019920" y="6095880"/>
          <a:ext cx="476280" cy="447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019920" y="6095880"/>
                    <a:ext cx="47628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23960" y="2286000"/>
            <a:ext cx="7696080" cy="36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cab40"/>
                </a:solidFill>
                <a:latin typeface="Arial Narrow"/>
                <a:ea typeface="華康粗圓體"/>
              </a:rPr>
              <a:t>北區毒災應變諮詢中心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cab40"/>
                </a:solidFill>
                <a:latin typeface="Arial Narrow"/>
                <a:ea typeface="華康粗圓體"/>
              </a:rPr>
              <a:t>工研院 陳范倫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cab40"/>
                </a:solidFill>
                <a:latin typeface="Arial Narrow"/>
                <a:ea typeface="華康粗圓體"/>
              </a:rPr>
              <a:t>VAN@ITRI.ORG.TW</a:t>
            </a:r>
            <a:r>
              <a:rPr b="1" lang="zh-TW" sz="3600" spc="-1" strike="noStrike">
                <a:solidFill>
                  <a:srgbClr val="fcab40"/>
                </a:solidFill>
                <a:latin typeface="Arial Narrow"/>
                <a:ea typeface="華康粗圓體"/>
              </a:rPr>
              <a:t> 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cab40"/>
                </a:solidFill>
                <a:latin typeface="Arial Narrow"/>
                <a:ea typeface="華康粗圓體"/>
              </a:rPr>
              <a:t>中華民國 九十一 年 十一 月 二十二 日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9907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66"/>
                </a:solidFill>
                <a:latin typeface="Arial Narrow"/>
                <a:ea typeface="華康粗圓體"/>
              </a:rPr>
              <a:t>九十一年度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66"/>
                </a:solidFill>
                <a:latin typeface="Arial Narrow"/>
                <a:ea typeface="華康粗圓體"/>
              </a:rPr>
              <a:t>緊急諮詢案例分析研討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666880" y="0"/>
            <a:ext cx="495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66ff66"/>
                </a:solidFill>
                <a:latin typeface="Arial"/>
                <a:ea typeface="華康粗圓體"/>
              </a:rPr>
              <a:t>行政院環境保護署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908000" y="115920"/>
            <a:ext cx="857520" cy="752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43AB-1A05-4D16-B64C-99AFCA626EA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1440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統友公司鐵桶膨脹事故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3000" y="917640"/>
            <a:ext cx="8001000" cy="50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1.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發生時間：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91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年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11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月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12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日 上午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09:0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2.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發生地點：台北縣新莊市三和路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8-9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號統友公司倉庫區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3.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受傷人員：無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4.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化學品：脂肪族聚異氰酸化合物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(Aliphatic polyisocyanate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5.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事故簡述：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11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月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12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日上午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9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時，北區毒災應變諮詢中心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   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接獲拜耳公司邱經理通報，該公司所供應化學品下游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   </a:t>
            </a:r>
            <a:r>
              <a:rPr b="1" lang="zh-TW" sz="2400" spc="-1" strike="noStrike">
                <a:solidFill>
                  <a:srgbClr val="fcab40"/>
                </a:solidFill>
                <a:latin typeface="Arial Narrow"/>
                <a:ea typeface="華康細圓體"/>
              </a:rPr>
              <a:t>倉儲業者倉庫內，發現一鐵桶膨脹變型，經確認該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cab40"/>
                </a:solidFill>
                <a:latin typeface="Arial Narrow"/>
                <a:ea typeface="華康細圓體"/>
              </a:rPr>
              <a:t>   </a:t>
            </a:r>
            <a:r>
              <a:rPr b="1" lang="zh-TW" sz="2400" spc="-1" strike="noStrike">
                <a:solidFill>
                  <a:srgbClr val="fcab40"/>
                </a:solidFill>
                <a:latin typeface="Arial Narrow"/>
                <a:ea typeface="華康細圓體"/>
              </a:rPr>
              <a:t>非列管毒性化學物質，由消防同仁四位著</a:t>
            </a:r>
            <a:r>
              <a:rPr b="1" lang="zh-TW" sz="2400" spc="-1" strike="noStrike">
                <a:solidFill>
                  <a:srgbClr val="fcab40"/>
                </a:solidFill>
                <a:latin typeface="Arial Narrow"/>
                <a:ea typeface="華康細圓體"/>
              </a:rPr>
              <a:t>A</a:t>
            </a:r>
            <a:r>
              <a:rPr b="1" lang="zh-TW" sz="2400" spc="-1" strike="noStrike">
                <a:solidFill>
                  <a:srgbClr val="fcab40"/>
                </a:solidFill>
                <a:latin typeface="Arial Narrow"/>
                <a:ea typeface="華康細圓體"/>
              </a:rPr>
              <a:t>級防護衣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Arial Narrow"/>
                <a:ea typeface="華康細圓體"/>
              </a:rPr>
              <a:t>   </a:t>
            </a:r>
            <a:r>
              <a:rPr b="1" lang="zh-TW" sz="2400" spc="-1" strike="noStrike">
                <a:solidFill>
                  <a:srgbClr val="ff9900"/>
                </a:solidFill>
                <a:latin typeface="Arial Narrow"/>
                <a:ea typeface="華康細圓體"/>
              </a:rPr>
              <a:t>，攜帶工具進行鐵桶洩壓工作，事故於上午</a:t>
            </a:r>
            <a:r>
              <a:rPr b="1" lang="zh-TW" sz="2400" spc="-1" strike="noStrike">
                <a:solidFill>
                  <a:srgbClr val="ff9900"/>
                </a:solidFill>
                <a:latin typeface="Arial Narrow"/>
                <a:ea typeface="華康細圓體"/>
              </a:rPr>
              <a:t>11</a:t>
            </a:r>
            <a:r>
              <a:rPr b="1" lang="zh-TW" sz="2400" spc="-1" strike="noStrike">
                <a:solidFill>
                  <a:srgbClr val="ff9900"/>
                </a:solidFill>
                <a:latin typeface="Arial Narrow"/>
                <a:ea typeface="華康細圓體"/>
              </a:rPr>
              <a:t>時</a:t>
            </a:r>
            <a:r>
              <a:rPr b="1" lang="zh-TW" sz="2400" spc="-1" strike="noStrike">
                <a:solidFill>
                  <a:srgbClr val="ff9900"/>
                </a:solidFill>
                <a:latin typeface="Arial Narrow"/>
                <a:ea typeface="華康細圓體"/>
              </a:rPr>
              <a:t>25</a:t>
            </a:r>
            <a:r>
              <a:rPr b="1" lang="zh-TW" sz="2400" spc="-1" strike="noStrike">
                <a:solidFill>
                  <a:srgbClr val="ff9900"/>
                </a:solidFill>
                <a:latin typeface="Arial Narrow"/>
                <a:ea typeface="華康細圓體"/>
              </a:rPr>
              <a:t>分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9900"/>
                </a:solidFill>
                <a:latin typeface="Arial Narrow"/>
                <a:ea typeface="華康細圓體"/>
              </a:rPr>
              <a:t>   </a:t>
            </a:r>
            <a:r>
              <a:rPr b="1" lang="zh-TW" sz="2400" spc="-1" strike="noStrike">
                <a:solidFill>
                  <a:srgbClr val="ff9900"/>
                </a:solidFill>
                <a:latin typeface="Arial Narrow"/>
                <a:ea typeface="華康細圓體"/>
              </a:rPr>
              <a:t>解除，隨後進行災因調查、檢討與殘留物質清理工作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AF1E-7699-454A-9B28-3932D066F8A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09480" y="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毒  災  特  性</a:t>
            </a:r>
            <a:r>
              <a:rPr b="0" lang="zh-TW" sz="4400" spc="-1" strike="noStrike">
                <a:solidFill>
                  <a:srgbClr val="eaeaea"/>
                </a:solidFill>
                <a:latin typeface="華康粗圓體"/>
                <a:ea typeface="華康粗圓體"/>
              </a:rPr>
              <a:t>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143000" y="1066680"/>
            <a:ext cx="8001000" cy="56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buClr>
                <a:srgbClr val="ffff66"/>
              </a:buClr>
              <a:buFont typeface="華康粗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可能伴隨重大火災及爆炸災況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66"/>
              </a:buClr>
              <a:buFont typeface="華康粗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可能有大量傷患就醫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66"/>
              </a:buClr>
              <a:buFont typeface="華康粗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需要大範圍封鎖與管制及疏散民眾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66"/>
              </a:buClr>
              <a:buFont typeface="華康粗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可能需要成立災民收容中心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66"/>
              </a:buClr>
              <a:buFont typeface="華康粗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需要確認濃度範圍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(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偵測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66"/>
              </a:buClr>
              <a:buFont typeface="華康粗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可能伴隨大量污染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(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空氣、水、土壤、人員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66"/>
              </a:buClr>
              <a:buFont typeface="華康粗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民眾會特別焦慮，需要長時間追蹤輔導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66"/>
              </a:buClr>
              <a:buFont typeface="華康粗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事後的廢棄物清除處理困難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66"/>
              </a:buClr>
              <a:buFont typeface="華康粗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後續社會成本影響大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66"/>
              </a:buClr>
              <a:buFont typeface="華康粗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41FE-B171-49F3-8F80-3200C8E4102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066680" y="1143000"/>
            <a:ext cx="2895840" cy="1981080"/>
          </a:xfrm>
          <a:prstGeom prst="ellipse">
            <a:avLst/>
          </a:prstGeom>
          <a:noFill/>
          <a:ln w="73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ff33"/>
                </a:solidFill>
                <a:latin typeface="Arial Narrow"/>
                <a:ea typeface="華康粗圓體"/>
              </a:rPr>
              <a:t>預防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ff33"/>
                </a:solidFill>
                <a:latin typeface="Arial Narrow"/>
                <a:ea typeface="華康粗圓體"/>
              </a:rPr>
              <a:t>(Prevention)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57800" y="1143000"/>
            <a:ext cx="2895480" cy="1981080"/>
          </a:xfrm>
          <a:prstGeom prst="ellipse">
            <a:avLst/>
          </a:prstGeom>
          <a:noFill/>
          <a:ln w="73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ff33"/>
                </a:solidFill>
                <a:latin typeface="Arial Narrow"/>
                <a:ea typeface="華康粗圓體"/>
              </a:rPr>
              <a:t>整備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ff33"/>
                </a:solidFill>
                <a:latin typeface="Arial Narrow"/>
                <a:ea typeface="華康粗圓體"/>
              </a:rPr>
              <a:t>(Preparation)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34120" y="3809880"/>
            <a:ext cx="2895480" cy="1981440"/>
          </a:xfrm>
          <a:prstGeom prst="ellipse">
            <a:avLst/>
          </a:prstGeom>
          <a:noFill/>
          <a:ln w="73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ff33"/>
                </a:solidFill>
                <a:latin typeface="Arial Narrow"/>
                <a:ea typeface="華康粗圓體"/>
              </a:rPr>
              <a:t>應變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ff33"/>
                </a:solidFill>
                <a:latin typeface="Arial Narrow"/>
                <a:ea typeface="華康粗圓體"/>
              </a:rPr>
              <a:t>(Response)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3733920"/>
            <a:ext cx="2895840" cy="1981080"/>
          </a:xfrm>
          <a:prstGeom prst="ellipse">
            <a:avLst/>
          </a:prstGeom>
          <a:noFill/>
          <a:ln w="73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ff33"/>
                </a:solidFill>
                <a:latin typeface="Arial Narrow"/>
                <a:ea typeface="華康粗圓體"/>
              </a:rPr>
              <a:t>復原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ff33"/>
                </a:solidFill>
                <a:latin typeface="Arial Narrow"/>
                <a:ea typeface="華康粗圓體"/>
              </a:rPr>
              <a:t>(Recovery)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114800" y="2209680"/>
            <a:ext cx="914400" cy="0"/>
          </a:xfrm>
          <a:prstGeom prst="line">
            <a:avLst/>
          </a:prstGeom>
          <a:ln w="76320">
            <a:solidFill>
              <a:srgbClr val="eaeaea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705720" y="3200400"/>
            <a:ext cx="0" cy="533520"/>
          </a:xfrm>
          <a:prstGeom prst="line">
            <a:avLst/>
          </a:prstGeom>
          <a:ln w="76320">
            <a:solidFill>
              <a:srgbClr val="eaeaea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114800" y="4800600"/>
            <a:ext cx="990720" cy="0"/>
          </a:xfrm>
          <a:prstGeom prst="line">
            <a:avLst/>
          </a:prstGeom>
          <a:ln w="76320">
            <a:solidFill>
              <a:srgbClr val="eaeaea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2438280" y="3200400"/>
            <a:ext cx="0" cy="457200"/>
          </a:xfrm>
          <a:prstGeom prst="line">
            <a:avLst/>
          </a:prstGeom>
          <a:ln w="76320">
            <a:solidFill>
              <a:srgbClr val="eaeaea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D7BD-720E-402F-9B4A-23BBF9BAB22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09480" y="2209680"/>
            <a:ext cx="807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eaeaea"/>
                </a:solidFill>
                <a:latin typeface="Times New Roman"/>
                <a:ea typeface="華康粗圓體"/>
              </a:rPr>
              <a:t>毒災演練規劃重點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C61C-35CC-4564-92D9-B5DCC212FFF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3520" y="0"/>
            <a:ext cx="807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66"/>
                </a:solidFill>
                <a:latin typeface="Times New Roman"/>
                <a:ea typeface="華康粗圓體"/>
              </a:rPr>
              <a:t>需先規劃演練計畫書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1066680"/>
            <a:ext cx="8001000" cy="56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buClr>
                <a:srgbClr val="ffff66"/>
              </a:buClr>
              <a:buFont typeface="華康粗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演練依據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(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災害防救法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66"/>
              </a:buClr>
              <a:buFont typeface="華康粗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演練目的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(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熟悉跨縣市支援的角色與能量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66"/>
              </a:buClr>
              <a:buFont typeface="華康粗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演練方式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(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高司作業、實際演練、裝備展示宣導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66"/>
              </a:buClr>
              <a:buFont typeface="華康粗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演練地點與籌備時間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(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儘量腹地廣大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66"/>
              </a:buClr>
              <a:buFont typeface="華康粗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指導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(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中央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)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、主辦、協辦、承辦單位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(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事故縣市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66"/>
              </a:buClr>
              <a:buFont typeface="華康粗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參演單位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(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跨縣市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66"/>
              </a:buClr>
              <a:buFont typeface="華康粗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演習狀況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(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複合型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66"/>
              </a:buClr>
              <a:buFont typeface="華康粗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演習項目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(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提升至中央層級災害規模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66"/>
              </a:buClr>
              <a:buFont typeface="華康粗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需配合事項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66"/>
              </a:buClr>
              <a:buFont typeface="華康粗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7937-8C43-4E1B-980D-06A67FF38C7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914400" y="1066680"/>
            <a:ext cx="8001000" cy="49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buClr>
                <a:srgbClr val="ffff66"/>
              </a:buClr>
              <a:buFont typeface="華康粗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事故災害規模超過縣市應變能力範圍，需要其他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 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縣市支援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(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腳本規劃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66"/>
              </a:buClr>
              <a:buFont typeface="華康粗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需要特殊的搶救器材或應變裝備不足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66"/>
              </a:buClr>
              <a:buFont typeface="華康粗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最好演出的是複合型災害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(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火災、毒災洩漏、大量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 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傷患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..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66"/>
              </a:buClr>
              <a:buFont typeface="華康粗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對外求援通報的機制要突顯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66"/>
              </a:buClr>
              <a:buFont typeface="華康粗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需要中央協調，需成立中央災害應變中心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66"/>
              </a:buClr>
              <a:buFont typeface="華康粗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需突顯整合後的應變指揮系統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(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現場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ERC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66"/>
              </a:buClr>
              <a:buFont typeface="華康粗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需成立明顯的資源器材集結區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(Staging Area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0"/>
            <a:ext cx="807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66"/>
                </a:solidFill>
                <a:latin typeface="Times New Roman"/>
                <a:ea typeface="華康粗圓體"/>
              </a:rPr>
              <a:t>跨縣市毒災演練特色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0977-080C-4076-94EA-7C2E5F5EED5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819000" y="0"/>
            <a:ext cx="750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重點一：事故發生通報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990720"/>
            <a:ext cx="7848720" cy="56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749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事故發現人、 受傷人員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(WHO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事故發生地點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(WHERE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事故發生時間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(WHEN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何種危害物、 情況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-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洩漏、 火災、 爆炸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(WHAT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天氣情況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(Weather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目前初步處理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(HOW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建立通報與廣播詞範例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毒災發生時需於一小時內通知環保單位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7053-8827-484A-B1C5-D48906CD6DB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19000" y="0"/>
            <a:ext cx="750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重點二：應變小組與應變中心成立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990720"/>
            <a:ext cx="7848720" cy="43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749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小組的集結與清點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小組的指揮官與權責分工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(</a:t>
            </a:r>
            <a:r>
              <a:rPr b="0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Accountability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應變指揮中心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(ERC)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的位置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應變指揮中心的軟、硬體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考量風向的因素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有時為了掌握災情，需成立前進指揮中心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    </a:t>
            </a:r>
            <a:r>
              <a:rPr b="0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(Staging Area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AF68-50CE-452A-8C71-E54B906ED83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819000" y="0"/>
            <a:ext cx="750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重點三：危害確認及災情評估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14400" y="990720"/>
            <a:ext cx="7848720" cy="56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749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初期隔離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(Isolate) 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、禁止進入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(Deny Entry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必要時進行疏散民眾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利用望遠鏡、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CCTV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、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GM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危害標示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(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九大類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物質安全資料表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(MSDS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緊急應變程序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(SOP)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或其他應變書籍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.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廠區平面圖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(Layout) 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、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P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＆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ID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圖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鄰近地區圖及人口分佈資料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2" name="msds61" descr=""/>
          <p:cNvPicPr/>
          <p:nvPr/>
        </p:nvPicPr>
        <p:blipFill>
          <a:blip r:embed="rId2"/>
          <a:stretch/>
        </p:blipFill>
        <p:spPr>
          <a:xfrm>
            <a:off x="6324480" y="167652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0DF6-98C6-42D9-AD40-2665870294E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1066680"/>
            <a:ext cx="7696080" cy="35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指認：指認可能的危害源及危害物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(Identify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估量：估量結果提供做決策及制定行動計畫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事實：時間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/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位置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/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天氣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/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緊急事故特性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/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人員傷亡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/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曝露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可能性：生命危害性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/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災變速率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/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擴散區域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/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火災爆炸可能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                   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破壞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/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天氣的變化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/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可能救援的財產等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狀況：考量事故過去、現在、未來狀況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(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預測能力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)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；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               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人力、生產設備及週邊器材用具等狀況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(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資源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53920" y="0"/>
            <a:ext cx="743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SIZE-UP(</a:t>
            </a:r>
            <a:r>
              <a:rPr b="1" lang="zh-TW" sz="4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災情評估</a:t>
            </a:r>
            <a:r>
              <a:rPr b="1" lang="zh-TW" sz="4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)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58F5-91CE-4588-B0BA-CA359DB5C4F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Times New Roman"/>
                <a:ea typeface="華康細圓體"/>
              </a:rPr>
              <a:t>湖口工業區友發化工意外事故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00000" y="836640"/>
            <a:ext cx="79930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eaeaea"/>
                </a:solidFill>
                <a:latin typeface="Tahoma"/>
              </a:rPr>
              <a:t>  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1.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發生時間：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91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年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2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月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16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日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12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時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42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分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2.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事故地點：新竹縣湖口工業區友發化工廠儲槽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3.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受傷人員：無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細圓體"/>
              </a:rPr>
              <a:t>  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4.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化學品：黃磷水溶液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  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5.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事故簡述：大年初五剛開工，新竹縣湖口工業區友發化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                           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工廠在進行開工程序檢查時，發現黃磷溶液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細圓體"/>
              </a:rPr>
              <a:t>                           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儲存槽的輸送管接縫處有外洩情況，漏出的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                           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黃磷產生大量的濃煙與嗆鼻的刺激味，外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                           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量約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100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公斤左右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3330-C76C-48C2-B5CA-499849AEA09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819000" y="0"/>
            <a:ext cx="750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重點四：區域管制與登錄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1143000"/>
            <a:ext cx="77724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警戒區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(Hot Zone) 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：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   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1.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在可偵測的環境下，以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1/2IDLH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偵測值劃定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   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2.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若無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IDLH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，可以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10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倍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TWA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之偵測值劃定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   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3.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若無法偵測，可參考緊急應變指南疏散建議值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除污區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(Warm Zone)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：以合適架設除污走道及水源處劃定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安全區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(Cold Zone) 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：前進指揮所、媒體管制區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進出管制路線的控制與登錄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Rehab Area(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復原區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D6D2-FF80-4B3D-95E4-8EF4E1C3438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9072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STRATEGY AND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   </a:t>
            </a: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TACTICS(</a:t>
            </a: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戰略及戰術</a:t>
            </a: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OFFENSIVE(</a:t>
            </a: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攻擊</a:t>
            </a: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DEFENSIVE(</a:t>
            </a: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防守</a:t>
            </a: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急救</a:t>
            </a: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(First Aid)</a:t>
            </a: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、個人防護</a:t>
            </a: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(PPE) </a:t>
            </a: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、滅火</a:t>
            </a: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(Fire) </a:t>
            </a: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、止漏</a:t>
            </a: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(Spill) </a:t>
            </a: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、搜救</a:t>
            </a: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(Rescue).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決定行動的優先順序</a:t>
            </a: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(priority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8" name="DSC00005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3352680" cy="25146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819000" y="0"/>
            <a:ext cx="750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重點五：初期行動方案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F2F7-7164-4294-B1AC-E648F316A87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33"/>
                </a:solidFill>
                <a:latin typeface="Arial Narrow"/>
                <a:ea typeface="華康粗圓體"/>
              </a:rPr>
              <a:t>DECISION TREE(</a:t>
            </a:r>
            <a:r>
              <a:rPr b="1" lang="zh-TW" sz="4400" spc="-1" strike="noStrike">
                <a:solidFill>
                  <a:srgbClr val="ccff33"/>
                </a:solidFill>
                <a:latin typeface="Arial Narrow"/>
                <a:ea typeface="華康粗圓體"/>
              </a:rPr>
              <a:t>決策樹</a:t>
            </a:r>
            <a:r>
              <a:rPr b="1" lang="zh-TW" sz="4400" spc="-1" strike="noStrike">
                <a:solidFill>
                  <a:srgbClr val="ccff33"/>
                </a:solidFill>
                <a:latin typeface="Arial Narrow"/>
                <a:ea typeface="華康粗圓體"/>
              </a:rPr>
              <a:t>)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81720" y="1484280"/>
            <a:ext cx="262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SIZE-UP OF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INCIDENT FACTOR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362320"/>
            <a:ext cx="0" cy="7617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81360" y="3236760"/>
            <a:ext cx="182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REEVALUAT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81080" y="3733920"/>
            <a:ext cx="0" cy="7617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59120" y="4532400"/>
            <a:ext cx="281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DOES INCIDEN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CHANGE FAVORABL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267080" y="1981080"/>
            <a:ext cx="9144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15120" y="1442880"/>
            <a:ext cx="277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MAKE DECISIONS 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ACTIONS/STRATEG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934320" y="2362320"/>
            <a:ext cx="0" cy="5331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91440" y="3043080"/>
            <a:ext cx="232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SPECIFIC GOAL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AND OBJECTIV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934320" y="3886200"/>
            <a:ext cx="0" cy="533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554080" y="4532400"/>
            <a:ext cx="292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IMPLEMENT THE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TACTICAL OPERA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19720" y="4876920"/>
            <a:ext cx="9144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1371600"/>
            <a:ext cx="3581280" cy="1371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2F95-1241-456E-A665-651F7BDAEC5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295280" y="1066680"/>
            <a:ext cx="739152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12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</a:t>
            </a: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1.</a:t>
            </a:r>
            <a:r>
              <a:rPr b="1" lang="zh-TW" sz="3600" spc="-1" strike="noStrike">
                <a:solidFill>
                  <a:srgbClr val="ff0000"/>
                </a:solidFill>
                <a:latin typeface="Arial Narrow"/>
                <a:ea typeface="華康粗圓體"/>
              </a:rPr>
              <a:t>R</a:t>
            </a: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escue ( </a:t>
            </a: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救援</a:t>
            </a: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/</a:t>
            </a: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疏散 </a:t>
            </a: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)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2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  </a:t>
            </a: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2.</a:t>
            </a:r>
            <a:r>
              <a:rPr b="1" lang="zh-TW" sz="3600" spc="-1" strike="noStrike">
                <a:solidFill>
                  <a:srgbClr val="ff0000"/>
                </a:solidFill>
                <a:latin typeface="Arial Narrow"/>
                <a:ea typeface="華康粗圓體"/>
              </a:rPr>
              <a:t>E</a:t>
            </a: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xposure ( </a:t>
            </a: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防止曝露 </a:t>
            </a: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)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2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  </a:t>
            </a: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3.</a:t>
            </a:r>
            <a:r>
              <a:rPr b="1" lang="zh-TW" sz="3600" spc="-1" strike="noStrike">
                <a:solidFill>
                  <a:srgbClr val="ff0000"/>
                </a:solidFill>
                <a:latin typeface="Arial Narrow"/>
                <a:ea typeface="華康粗圓體"/>
              </a:rPr>
              <a:t>C</a:t>
            </a: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ontainment/   Confinement ( </a:t>
            </a: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圍堵 </a:t>
            </a: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)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2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  </a:t>
            </a: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4.</a:t>
            </a:r>
            <a:r>
              <a:rPr b="1" lang="zh-TW" sz="3600" spc="-1" strike="noStrike">
                <a:solidFill>
                  <a:srgbClr val="ff0000"/>
                </a:solidFill>
                <a:latin typeface="Arial Narrow"/>
                <a:ea typeface="華康粗圓體"/>
              </a:rPr>
              <a:t>E</a:t>
            </a: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xtinguish ( </a:t>
            </a: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撲滅</a:t>
            </a: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/</a:t>
            </a: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排除危害 </a:t>
            </a: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)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2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  </a:t>
            </a: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5.</a:t>
            </a:r>
            <a:r>
              <a:rPr b="1" lang="zh-TW" sz="3600" spc="-1" strike="noStrike">
                <a:solidFill>
                  <a:srgbClr val="ff0000"/>
                </a:solidFill>
                <a:latin typeface="Arial Narrow"/>
                <a:ea typeface="華康粗圓體"/>
              </a:rPr>
              <a:t>V</a:t>
            </a: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entilation ( </a:t>
            </a: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排氣 </a:t>
            </a: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)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2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  </a:t>
            </a: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6.</a:t>
            </a:r>
            <a:r>
              <a:rPr b="1" lang="zh-TW" sz="3600" spc="-1" strike="noStrike">
                <a:solidFill>
                  <a:srgbClr val="ff0000"/>
                </a:solidFill>
                <a:latin typeface="Arial Narrow"/>
                <a:ea typeface="華康粗圓體"/>
              </a:rPr>
              <a:t>O</a:t>
            </a: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verhaul ( </a:t>
            </a: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檢修 </a:t>
            </a: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)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Arial Narrow"/>
                <a:ea typeface="華康粗圓體"/>
              </a:rPr>
              <a:t>  </a:t>
            </a:r>
            <a:r>
              <a:rPr b="1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7.</a:t>
            </a:r>
            <a:r>
              <a:rPr b="1" lang="zh-TW" sz="3600" spc="-1" strike="noStrike">
                <a:solidFill>
                  <a:srgbClr val="ff0000"/>
                </a:solidFill>
                <a:latin typeface="Arial Narrow"/>
                <a:ea typeface="華康粗圓體"/>
              </a:rPr>
              <a:t>R</a:t>
            </a: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ecovery ( </a:t>
            </a: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復原 </a:t>
            </a: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)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33"/>
                </a:solidFill>
                <a:latin typeface="Arial Narrow"/>
                <a:ea typeface="華康粗圓體"/>
              </a:rPr>
              <a:t>RECEVOR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F692-AD6C-4080-BD09-B8676892B48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19000" y="0"/>
            <a:ext cx="750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重點六：指揮權轉移</a:t>
            </a:r>
            <a:r>
              <a:rPr b="1" lang="zh-TW" sz="40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(</a:t>
            </a:r>
            <a:r>
              <a:rPr b="1" lang="zh-TW" sz="40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請求支援</a:t>
            </a:r>
            <a:r>
              <a:rPr b="1" lang="zh-TW" sz="40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)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19320" y="914400"/>
            <a:ext cx="70866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  </a:t>
            </a:r>
            <a:r>
              <a:rPr b="0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卸任指揮官必須向新任指揮官做簡報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 </a:t>
            </a:r>
            <a:r>
              <a:rPr b="0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1.</a:t>
            </a:r>
            <a:r>
              <a:rPr b="0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事故狀況</a:t>
            </a:r>
            <a:r>
              <a:rPr b="0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(</a:t>
            </a:r>
            <a:r>
              <a:rPr b="0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現有情形、目標、優先順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    </a:t>
            </a:r>
            <a:r>
              <a:rPr b="0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序、危險物、所需資源等</a:t>
            </a:r>
            <a:r>
              <a:rPr b="0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)</a:t>
            </a:r>
            <a:r>
              <a:rPr b="0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 </a:t>
            </a:r>
            <a:r>
              <a:rPr b="0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2.IAP</a:t>
            </a:r>
            <a:r>
              <a:rPr b="0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及現有狀況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 </a:t>
            </a:r>
            <a:r>
              <a:rPr b="0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3.</a:t>
            </a:r>
            <a:r>
              <a:rPr b="0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安全考量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 </a:t>
            </a:r>
            <a:r>
              <a:rPr b="0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4.</a:t>
            </a:r>
            <a:r>
              <a:rPr b="0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操作單位人員的指派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7FF2-DF65-454C-9094-DDD468224B9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371600" y="1066680"/>
            <a:ext cx="7543800" cy="44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人員的支援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器材的支援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醫療的支援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消防的支援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附近友廠可用資源調查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BASE(</a:t>
            </a: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物資區</a:t>
            </a: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) </a:t>
            </a: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的選擇</a:t>
            </a: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:</a:t>
            </a: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只能有一個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9" name="DSC00013" descr=""/>
          <p:cNvPicPr/>
          <p:nvPr/>
        </p:nvPicPr>
        <p:blipFill>
          <a:blip r:embed="rId2"/>
          <a:stretch/>
        </p:blipFill>
        <p:spPr>
          <a:xfrm>
            <a:off x="4952880" y="1219320"/>
            <a:ext cx="3429000" cy="2571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B962-FC5F-444D-94DC-734D4762426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819000" y="0"/>
            <a:ext cx="750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重點七：整合的應變指揮系統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33720" y="1143000"/>
            <a:ext cx="4876560" cy="520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Times New Roman"/>
                <a:ea typeface="標楷體"/>
              </a:rPr>
              <a:t>指揮官 </a:t>
            </a:r>
            <a:r>
              <a:rPr b="0" lang="zh-TW" sz="2800" spc="-1" strike="noStrike">
                <a:solidFill>
                  <a:srgbClr val="eaeaea"/>
                </a:solidFill>
                <a:latin typeface="Times New Roman"/>
                <a:ea typeface="標楷體"/>
              </a:rPr>
              <a:t>Incident Command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0" y="1676520"/>
            <a:ext cx="0" cy="1981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3657600"/>
            <a:ext cx="7124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4457880"/>
            <a:ext cx="1828800" cy="1169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Times New Roman"/>
                <a:ea typeface="標楷體"/>
              </a:rPr>
              <a:t>執行部門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Times New Roman"/>
              </a:rPr>
              <a:t>Oper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90720" y="369576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90920" y="4457880"/>
            <a:ext cx="1828800" cy="1169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Times New Roman"/>
                <a:ea typeface="標楷體"/>
              </a:rPr>
              <a:t>後勤部門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Times New Roman"/>
              </a:rPr>
              <a:t>Logistic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505320" y="369576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934320" y="4457880"/>
            <a:ext cx="1981080" cy="1169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Times New Roman"/>
                <a:ea typeface="標楷體"/>
              </a:rPr>
              <a:t>計畫部門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Times New Roman"/>
                <a:ea typeface="標楷體"/>
              </a:rPr>
              <a:t>Plann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077320" y="369576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00600" y="4457880"/>
            <a:ext cx="1828800" cy="1169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Times New Roman"/>
                <a:ea typeface="標楷體"/>
              </a:rPr>
              <a:t>財務部門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Times New Roman"/>
              </a:rPr>
              <a:t>Finan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369576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52880" y="1981080"/>
            <a:ext cx="3505320" cy="520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Times New Roman"/>
                <a:ea typeface="標楷體"/>
              </a:rPr>
              <a:t>安全官 </a:t>
            </a:r>
            <a:r>
              <a:rPr b="0" lang="zh-TW" sz="2800" spc="-1" strike="noStrike">
                <a:solidFill>
                  <a:srgbClr val="eaeaea"/>
                </a:solidFill>
                <a:latin typeface="Times New Roman"/>
                <a:ea typeface="標楷體"/>
              </a:rPr>
              <a:t>Safety Offic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1981080"/>
            <a:ext cx="3504960" cy="520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Times New Roman"/>
                <a:ea typeface="標楷體"/>
              </a:rPr>
              <a:t>新聞官 </a:t>
            </a:r>
            <a:r>
              <a:rPr b="0" lang="zh-TW" sz="2800" spc="-1" strike="noStrike">
                <a:solidFill>
                  <a:srgbClr val="eaeaea"/>
                </a:solidFill>
                <a:latin typeface="Times New Roman"/>
                <a:ea typeface="標楷體"/>
              </a:rPr>
              <a:t>Info. Offic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2871720"/>
            <a:ext cx="3657600" cy="520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Times New Roman"/>
                <a:ea typeface="標楷體"/>
              </a:rPr>
              <a:t>聯絡官 </a:t>
            </a:r>
            <a:r>
              <a:rPr b="0" lang="zh-TW" sz="2800" spc="-1" strike="noStrike">
                <a:solidFill>
                  <a:srgbClr val="eaeaea"/>
                </a:solidFill>
                <a:latin typeface="Times New Roman"/>
                <a:ea typeface="標楷體"/>
              </a:rPr>
              <a:t>Liaison Offic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0" y="2209680"/>
            <a:ext cx="3808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267080" y="2209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267080" y="31240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311B-0CD4-4AF7-AFA2-91A4B2A4976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287280" y="228600"/>
            <a:ext cx="8569080" cy="5600520"/>
            <a:chOff x="287280" y="228600"/>
            <a:chExt cx="8569080" cy="5600520"/>
          </a:xfrm>
        </p:grpSpPr>
        <p:sp>
          <p:nvSpPr>
            <p:cNvPr id="139" name=""/>
            <p:cNvSpPr/>
            <p:nvPr/>
          </p:nvSpPr>
          <p:spPr>
            <a:xfrm>
              <a:off x="601560" y="2413440"/>
              <a:ext cx="1440" cy="165240"/>
            </a:xfrm>
            <a:prstGeom prst="line">
              <a:avLst/>
            </a:prstGeom>
            <a:ln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68280" y="2413440"/>
              <a:ext cx="1440" cy="165240"/>
            </a:xfrm>
            <a:prstGeom prst="line">
              <a:avLst/>
            </a:prstGeom>
            <a:ln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836800" y="2413440"/>
              <a:ext cx="1440" cy="165240"/>
            </a:xfrm>
            <a:prstGeom prst="line">
              <a:avLst/>
            </a:prstGeom>
            <a:ln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66680" y="2413440"/>
              <a:ext cx="1800" cy="165240"/>
            </a:xfrm>
            <a:prstGeom prst="line">
              <a:avLst/>
            </a:prstGeom>
            <a:ln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3693960" y="2253960"/>
              <a:ext cx="1440" cy="329400"/>
            </a:xfrm>
            <a:prstGeom prst="line">
              <a:avLst/>
            </a:prstGeom>
            <a:ln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4608360" y="2253960"/>
              <a:ext cx="1440" cy="329400"/>
            </a:xfrm>
            <a:prstGeom prst="line">
              <a:avLst/>
            </a:prstGeom>
            <a:ln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6919920" y="2253960"/>
              <a:ext cx="1440" cy="329400"/>
            </a:xfrm>
            <a:prstGeom prst="line">
              <a:avLst/>
            </a:prstGeom>
            <a:ln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6157800" y="2253960"/>
              <a:ext cx="1440" cy="329400"/>
            </a:xfrm>
            <a:prstGeom prst="line">
              <a:avLst/>
            </a:prstGeom>
            <a:ln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5421240" y="2253960"/>
              <a:ext cx="1440" cy="329400"/>
            </a:xfrm>
            <a:prstGeom prst="line">
              <a:avLst/>
            </a:prstGeom>
            <a:ln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8348400" y="2253960"/>
              <a:ext cx="1800" cy="329400"/>
            </a:xfrm>
            <a:prstGeom prst="line">
              <a:avLst/>
            </a:prstGeom>
            <a:ln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7554600" y="2253960"/>
              <a:ext cx="1800" cy="329400"/>
            </a:xfrm>
            <a:prstGeom prst="line">
              <a:avLst/>
            </a:prstGeom>
            <a:ln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4608360" y="771120"/>
              <a:ext cx="0" cy="576000"/>
            </a:xfrm>
            <a:prstGeom prst="line">
              <a:avLst/>
            </a:prstGeom>
            <a:ln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608040" y="1009080"/>
              <a:ext cx="0" cy="185400"/>
            </a:xfrm>
            <a:prstGeom prst="line">
              <a:avLst/>
            </a:prstGeom>
            <a:ln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8342280" y="1009080"/>
              <a:ext cx="0" cy="344520"/>
            </a:xfrm>
            <a:prstGeom prst="line">
              <a:avLst/>
            </a:prstGeom>
            <a:ln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608040" y="1002960"/>
              <a:ext cx="7734240" cy="0"/>
            </a:xfrm>
            <a:prstGeom prst="line">
              <a:avLst/>
            </a:prstGeom>
            <a:ln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3713040" y="1002960"/>
              <a:ext cx="0" cy="344160"/>
            </a:xfrm>
            <a:prstGeom prst="line">
              <a:avLst/>
            </a:prstGeom>
            <a:ln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5421240" y="1002960"/>
              <a:ext cx="0" cy="344160"/>
            </a:xfrm>
            <a:prstGeom prst="line">
              <a:avLst/>
            </a:prstGeom>
            <a:ln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6151320" y="1009080"/>
              <a:ext cx="0" cy="344520"/>
            </a:xfrm>
            <a:prstGeom prst="line">
              <a:avLst/>
            </a:prstGeom>
            <a:ln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6906960" y="1002960"/>
              <a:ext cx="0" cy="344160"/>
            </a:xfrm>
            <a:prstGeom prst="line">
              <a:avLst/>
            </a:prstGeom>
            <a:ln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7542000" y="1009080"/>
              <a:ext cx="0" cy="344520"/>
            </a:xfrm>
            <a:prstGeom prst="line">
              <a:avLst/>
            </a:prstGeom>
            <a:ln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1274760" y="1002600"/>
              <a:ext cx="0" cy="185400"/>
            </a:xfrm>
            <a:prstGeom prst="line">
              <a:avLst/>
            </a:prstGeom>
            <a:ln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1966680" y="1002600"/>
              <a:ext cx="0" cy="185400"/>
            </a:xfrm>
            <a:prstGeom prst="line">
              <a:avLst/>
            </a:prstGeom>
            <a:ln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2836800" y="996120"/>
              <a:ext cx="0" cy="185400"/>
            </a:xfrm>
            <a:prstGeom prst="line">
              <a:avLst/>
            </a:prstGeom>
            <a:ln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932600" y="2565360"/>
              <a:ext cx="923760" cy="325404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eaeaea"/>
              </a:solidFill>
              <a:miter/>
            </a:ln>
            <a:effectLst>
              <a:outerShdw dist="17819" dir="2700000" blurRad="0" rotWithShape="0">
                <a:srgbClr val="eaeae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9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eaeaea"/>
                  </a:solidFill>
                  <a:latin typeface="Times New Roman"/>
                  <a:ea typeface="標楷體"/>
                </a:rPr>
                <a:t>執行災情查報、災害搶救、治安維護、交通疏導、犯罪偵防及災民救助等事項。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372080" y="2565360"/>
              <a:ext cx="428760" cy="3263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54"/>
              </a:solidFill>
              <a:miter/>
            </a:ln>
            <a:effectLst>
              <a:outerShdw dist="17819" dir="2700000" blurRad="0" rotWithShape="0">
                <a:srgbClr val="eaeae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9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54"/>
                  </a:solidFill>
                  <a:latin typeface="Times New Roman"/>
                  <a:ea typeface="標楷體"/>
                </a:rPr>
                <a:t>有關涉外之協調聯繫事項。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583320" y="2565360"/>
              <a:ext cx="657000" cy="3263760"/>
            </a:xfrm>
            <a:prstGeom prst="rect">
              <a:avLst/>
            </a:prstGeom>
            <a:solidFill>
              <a:srgbClr val="003300"/>
            </a:solidFill>
            <a:ln w="9360">
              <a:solidFill>
                <a:srgbClr val="eaeaea"/>
              </a:solidFill>
              <a:miter/>
            </a:ln>
            <a:effectLst>
              <a:outerShdw dist="17819" dir="2700000" blurRad="0" rotWithShape="0">
                <a:srgbClr val="eaeae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9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eaeaea"/>
                  </a:solidFill>
                  <a:latin typeface="Times New Roman"/>
                  <a:ea typeface="標楷體"/>
                </a:rPr>
                <a:t>支援災害偵檢、除毒、災情蒐集及通報事項。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795640" y="2565360"/>
              <a:ext cx="657360" cy="326376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54"/>
              </a:solidFill>
              <a:miter/>
            </a:ln>
            <a:effectLst>
              <a:outerShdw dist="17819" dir="2700000" blurRad="0" rotWithShape="0">
                <a:srgbClr val="eaeae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9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54"/>
                  </a:solidFill>
                  <a:latin typeface="Times New Roman"/>
                  <a:ea typeface="標楷體"/>
                </a:rPr>
                <a:t>穩定金融股匯市及救災款項撥付等事項。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44840" y="2565360"/>
              <a:ext cx="419040" cy="3263760"/>
            </a:xfrm>
            <a:prstGeom prst="rect">
              <a:avLst/>
            </a:prstGeom>
            <a:solidFill>
              <a:srgbClr val="ffb5b5"/>
            </a:solidFill>
            <a:ln w="9360">
              <a:solidFill>
                <a:srgbClr val="000054"/>
              </a:solidFill>
              <a:miter/>
            </a:ln>
            <a:effectLst>
              <a:outerShdw dist="17819" dir="2700000" blurRad="0" rotWithShape="0">
                <a:srgbClr val="eaeae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9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54"/>
                  </a:solidFill>
                  <a:latin typeface="Times New Roman"/>
                  <a:ea typeface="標楷體"/>
                </a:rPr>
                <a:t>執行防災教育宣導等事項。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00480" y="2565360"/>
              <a:ext cx="914400" cy="3263760"/>
            </a:xfrm>
            <a:prstGeom prst="rect">
              <a:avLst/>
            </a:prstGeom>
            <a:solidFill>
              <a:srgbClr val="9900cc"/>
            </a:solidFill>
            <a:ln w="9360">
              <a:solidFill>
                <a:srgbClr val="eaeaea"/>
              </a:solidFill>
              <a:miter/>
            </a:ln>
            <a:effectLst>
              <a:outerShdw dist="17819" dir="2700000" blurRad="0" rotWithShape="0">
                <a:srgbClr val="eaeae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9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eaeaea"/>
                  </a:solidFill>
                  <a:latin typeface="Times New Roman"/>
                  <a:ea typeface="標楷體"/>
                </a:rPr>
                <a:t>加強工業設施安全防護工作，督促所屬事業採取自來水及電力破壞防止措施。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411360" y="2565360"/>
              <a:ext cx="657360" cy="326376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54"/>
              </a:solidFill>
              <a:miter/>
            </a:ln>
            <a:effectLst>
              <a:outerShdw dist="17819" dir="2700000" blurRad="0" rotWithShape="0">
                <a:srgbClr val="eaeae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9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54"/>
                  </a:solidFill>
                  <a:latin typeface="Times New Roman"/>
                  <a:ea typeface="標楷體"/>
                </a:rPr>
                <a:t>加強航空、港口及其他交通設施安全防範。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412720" y="2565360"/>
              <a:ext cx="866880" cy="32637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54"/>
              </a:solidFill>
              <a:miter/>
            </a:ln>
            <a:effectLst>
              <a:outerShdw dist="17819" dir="2700000" blurRad="0" rotWithShape="0">
                <a:srgbClr val="eaeae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9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54"/>
                  </a:solidFill>
                  <a:latin typeface="Times New Roman"/>
                  <a:ea typeface="標楷體"/>
                </a:rPr>
                <a:t>災害新聞發布事項，加強宣導民眾認識毒氣災害及其防救常識。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625400" y="2565360"/>
              <a:ext cx="657360" cy="326376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54"/>
              </a:solidFill>
              <a:miter/>
            </a:ln>
            <a:effectLst>
              <a:outerShdw dist="17819" dir="2700000" blurRad="0" rotWithShape="0">
                <a:srgbClr val="eaeae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9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54"/>
                  </a:solidFill>
                  <a:latin typeface="Times New Roman"/>
                  <a:ea typeface="標楷體"/>
                </a:rPr>
                <a:t>負責緊急醫療及執行傷患救護作業。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87280" y="2565360"/>
              <a:ext cx="628560" cy="32637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54"/>
              </a:solidFill>
              <a:miter/>
            </a:ln>
            <a:effectLst>
              <a:outerShdw dist="17819" dir="2700000" blurRad="0" rotWithShape="0">
                <a:srgbClr val="eaeae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9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54"/>
                  </a:solidFill>
                  <a:latin typeface="Times New Roman"/>
                  <a:ea typeface="標楷體"/>
                </a:rPr>
                <a:t>災害現場檢測及污染整治監控事項。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046160" y="2565360"/>
              <a:ext cx="447480" cy="32637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54"/>
              </a:solidFill>
              <a:miter/>
            </a:ln>
            <a:effectLst>
              <a:outerShdw dist="17819" dir="2700000" blurRad="0" rotWithShape="0">
                <a:srgbClr val="eaeae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9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54"/>
                  </a:solidFill>
                  <a:latin typeface="Times New Roman"/>
                  <a:ea typeface="標楷體"/>
                </a:rPr>
                <a:t>加強勞工作業環境安全檢查。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226320" y="228600"/>
              <a:ext cx="2792160" cy="528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spcBef>
                  <a:spcPts val="1749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eaeaea"/>
                  </a:solidFill>
                  <a:latin typeface="Times New Roman"/>
                  <a:ea typeface="標楷體"/>
                </a:rPr>
                <a:t>中央災害應變中心職責架構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21600" y="1127160"/>
              <a:ext cx="509400" cy="133776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eaeaea"/>
              </a:solidFill>
              <a:miter/>
            </a:ln>
            <a:effectLst>
              <a:outerShdw dist="17819" dir="2700000" blurRad="0" rotWithShape="0">
                <a:srgbClr val="eaeae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just">
                <a:lnSpc>
                  <a:spcPct val="9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eaeaea"/>
                  </a:solidFill>
                  <a:latin typeface="Times New Roman"/>
                  <a:ea typeface="標楷體"/>
                </a:rPr>
                <a:t>內政部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321680" y="1127160"/>
              <a:ext cx="509400" cy="1337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54"/>
              </a:solidFill>
              <a:miter/>
            </a:ln>
            <a:effectLst>
              <a:outerShdw dist="17819" dir="2700000" blurRad="0" rotWithShape="0">
                <a:srgbClr val="eaeae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just">
                <a:lnSpc>
                  <a:spcPct val="9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54"/>
                  </a:solidFill>
                  <a:latin typeface="Times New Roman"/>
                  <a:ea typeface="標楷體"/>
                </a:rPr>
                <a:t>外交部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680160" y="1127160"/>
              <a:ext cx="509400" cy="1337760"/>
            </a:xfrm>
            <a:prstGeom prst="rect">
              <a:avLst/>
            </a:prstGeom>
            <a:solidFill>
              <a:srgbClr val="003300"/>
            </a:solidFill>
            <a:ln w="9360">
              <a:solidFill>
                <a:srgbClr val="eaeaea"/>
              </a:solidFill>
              <a:miter/>
            </a:ln>
            <a:effectLst>
              <a:outerShdw dist="17819" dir="2700000" blurRad="0" rotWithShape="0">
                <a:srgbClr val="eaeae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just">
                <a:lnSpc>
                  <a:spcPct val="9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eaeaea"/>
                  </a:solidFill>
                  <a:latin typeface="Times New Roman"/>
                  <a:ea typeface="標楷體"/>
                </a:rPr>
                <a:t>國防部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24520" y="1127160"/>
              <a:ext cx="509400" cy="133776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54"/>
              </a:solidFill>
              <a:miter/>
            </a:ln>
            <a:effectLst>
              <a:outerShdw dist="17819" dir="2700000" blurRad="0" rotWithShape="0">
                <a:srgbClr val="eaeae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just">
                <a:lnSpc>
                  <a:spcPct val="9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54"/>
                  </a:solidFill>
                  <a:latin typeface="Times New Roman"/>
                  <a:ea typeface="標楷體"/>
                </a:rPr>
                <a:t>財政部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181480" y="1127160"/>
              <a:ext cx="509400" cy="1337760"/>
            </a:xfrm>
            <a:prstGeom prst="rect">
              <a:avLst/>
            </a:prstGeom>
            <a:solidFill>
              <a:srgbClr val="ffb5b5"/>
            </a:solidFill>
            <a:ln w="9360">
              <a:solidFill>
                <a:srgbClr val="000054"/>
              </a:solidFill>
              <a:miter/>
            </a:ln>
            <a:effectLst>
              <a:outerShdw dist="17819" dir="2700000" blurRad="0" rotWithShape="0">
                <a:srgbClr val="eaeae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just">
                <a:lnSpc>
                  <a:spcPct val="9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54"/>
                  </a:solidFill>
                  <a:latin typeface="Times New Roman"/>
                  <a:ea typeface="標楷體"/>
                </a:rPr>
                <a:t>教育部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367160" y="1127160"/>
              <a:ext cx="509400" cy="1337760"/>
            </a:xfrm>
            <a:prstGeom prst="rect">
              <a:avLst/>
            </a:prstGeom>
            <a:solidFill>
              <a:srgbClr val="9900cc"/>
            </a:solidFill>
            <a:ln w="9360">
              <a:solidFill>
                <a:srgbClr val="eaeaea"/>
              </a:solidFill>
              <a:miter/>
            </a:ln>
            <a:effectLst>
              <a:outerShdw dist="17819" dir="2700000" blurRad="0" rotWithShape="0">
                <a:srgbClr val="eaeae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just">
                <a:lnSpc>
                  <a:spcPct val="9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eaeaea"/>
                  </a:solidFill>
                  <a:latin typeface="Times New Roman"/>
                  <a:ea typeface="標楷體"/>
                </a:rPr>
                <a:t>經濟部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467160" y="1127160"/>
              <a:ext cx="509400" cy="133776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54"/>
              </a:solidFill>
              <a:miter/>
            </a:ln>
            <a:effectLst>
              <a:outerShdw dist="17819" dir="2700000" blurRad="0" rotWithShape="0">
                <a:srgbClr val="eaeae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just">
                <a:lnSpc>
                  <a:spcPct val="9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54"/>
                  </a:solidFill>
                  <a:latin typeface="Times New Roman"/>
                  <a:ea typeface="標楷體"/>
                </a:rPr>
                <a:t>交通部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645280" y="907920"/>
              <a:ext cx="399240" cy="17492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54"/>
              </a:solidFill>
              <a:miter/>
            </a:ln>
            <a:effectLst>
              <a:outerShdw dist="17819" dir="2700000" blurRad="0" rotWithShape="0">
                <a:srgbClr val="eaeae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just">
                <a:lnSpc>
                  <a:spcPct val="9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54"/>
                  </a:solidFill>
                  <a:latin typeface="Times New Roman"/>
                  <a:ea typeface="標楷體"/>
                </a:rPr>
                <a:t>行政院新聞局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9720" y="914760"/>
              <a:ext cx="399240" cy="174924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54"/>
              </a:solidFill>
              <a:miter/>
            </a:ln>
            <a:effectLst>
              <a:outerShdw dist="17819" dir="2700000" blurRad="0" rotWithShape="0">
                <a:srgbClr val="eaeae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just">
                <a:lnSpc>
                  <a:spcPct val="9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54"/>
                  </a:solidFill>
                  <a:latin typeface="Times New Roman"/>
                  <a:ea typeface="標楷體"/>
                </a:rPr>
                <a:t>行政院勞委會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782000" y="914760"/>
              <a:ext cx="399240" cy="174924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54"/>
              </a:solidFill>
              <a:miter/>
            </a:ln>
            <a:effectLst>
              <a:outerShdw dist="17819" dir="2700000" blurRad="0" rotWithShape="0">
                <a:srgbClr val="eaeae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just">
                <a:lnSpc>
                  <a:spcPct val="9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54"/>
                  </a:solidFill>
                  <a:latin typeface="Times New Roman"/>
                  <a:ea typeface="標楷體"/>
                </a:rPr>
                <a:t>行政院衛生署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29120" y="914760"/>
              <a:ext cx="399240" cy="17492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54"/>
              </a:solidFill>
              <a:miter/>
            </a:ln>
            <a:effectLst>
              <a:outerShdw dist="17819" dir="2700000" blurRad="0" rotWithShape="0">
                <a:srgbClr val="eaeae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just">
                <a:lnSpc>
                  <a:spcPct val="9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54"/>
                  </a:solidFill>
                  <a:latin typeface="Times New Roman"/>
                  <a:ea typeface="標楷體"/>
                </a:rPr>
                <a:t>行政院環保署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58FD-578B-4126-909A-25198156876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066680" y="914400"/>
            <a:ext cx="7848720" cy="32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災區之污染濃度再確認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人員除污處理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   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除污後的衣物及器材需留置於除污區內 收集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現場災後處理：災後復原計畫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應變人員的健康追蹤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6" name="DSC00008" descr=""/>
          <p:cNvPicPr/>
          <p:nvPr/>
        </p:nvPicPr>
        <p:blipFill>
          <a:blip r:embed="rId2"/>
          <a:stretch/>
        </p:blipFill>
        <p:spPr>
          <a:xfrm>
            <a:off x="5562720" y="350532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819000" y="0"/>
            <a:ext cx="750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重點八：除污與災後善後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9C75-940B-4DC2-B331-09FD4D33CD2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914400" y="1295280"/>
            <a:ext cx="7848720" cy="32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此部份通常不演出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由事故主管機關為主，協同消防、衛生、勞檢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    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、警察與相關專家學者進行調查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調查結束提出報告，供相關單位檢討改進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19000" y="0"/>
            <a:ext cx="750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重點九：災因調查工作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0A87-9CC5-4FC9-9F1A-4D400286888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華康細圓體"/>
                <a:ea typeface="華康細圓體"/>
              </a:rPr>
              <a:t>花蓮航空站氯氣鋼瓶外洩事故</a:t>
            </a:r>
            <a:r>
              <a:rPr b="0" lang="zh-TW" sz="1800" spc="-1" strike="noStrike">
                <a:solidFill>
                  <a:srgbClr val="ff9933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08000" y="907920"/>
            <a:ext cx="8136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細圓體"/>
              </a:rPr>
              <a:t>  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1.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發生時間：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91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年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5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月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30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日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9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時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00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分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2.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事故地點：花蓮縣航空站附近空地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3.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受傷人員：無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細圓體"/>
              </a:rPr>
              <a:t>  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4.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化學品：氯氣鋼瓶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  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5.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事故簡述：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5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月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30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日上午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7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：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30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左右，花蓮縣航空站附件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     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民眾發現黃色鋼瓶一支，鋼瓶外觀黃色鏽蝕，有刺激性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     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嗆鼻味溢出，花蓮航空站主任電詢工研院葉德惠經理，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細圓體"/>
              </a:rPr>
              <a:t>     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經研判可能為氯氣。陳范倫緊急出發前往花蓮協助處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     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理，並通知中華紙漿公司緊急應變人員攜帶偵測器及處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     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理工具組前往協助搶救。經初步止漏後，將鋼瓶移往中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     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華紙漿公司廠內洩氣，事故於下午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3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：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25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解除。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7A04-575D-413F-8C29-AA083D1FB49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-10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基隆港碼頭區</a:t>
            </a:r>
            <a:r>
              <a:rPr b="1" lang="zh-TW" sz="4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4-</a:t>
            </a:r>
            <a:r>
              <a:rPr b="1" lang="zh-TW" sz="4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苯基比</a:t>
            </a:r>
            <a:r>
              <a:rPr b="1" lang="zh-TW" sz="4400" spc="-1" strike="noStrike">
                <a:solidFill>
                  <a:srgbClr val="ffff00"/>
                </a:solidFill>
                <a:latin typeface="Arial Narrow"/>
                <a:ea typeface="全真標準楷書"/>
              </a:rPr>
              <a:t>啶</a:t>
            </a:r>
            <a:r>
              <a:rPr b="1" lang="zh-TW" sz="4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外洩事故</a:t>
            </a:r>
            <a:r>
              <a:rPr b="1" lang="zh-TW" sz="4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00000" y="836640"/>
            <a:ext cx="7993080" cy="51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eaeaea"/>
                </a:solidFill>
                <a:latin typeface="Tahoma"/>
              </a:rPr>
              <a:t>  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1.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發生時間：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91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年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7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月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4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日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16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時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15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分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2.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事故地點：基隆市基隆港務局貨櫃碼頭區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3.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受傷人員：無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4.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化學品：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4-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苯基比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全真標準楷書"/>
              </a:rPr>
              <a:t>啶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53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加侖鐵桶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細圓體"/>
              </a:rPr>
              <a:t>  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5.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事故簡述：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7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月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4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日下午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16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：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15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左右，吉洋船務公司通報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     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基隆港消防隊，該公司運輸船上一只貨櫃有洩漏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4-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苯基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     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比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全真標準楷書"/>
              </a:rPr>
              <a:t>啶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之虞。該公司貨櫃不下港，人員以大量吸液棉及木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     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屑進行吸收圍堵。隔天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7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月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5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日接獲通報，該貨櫃已落地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細圓體"/>
              </a:rPr>
              <a:t>     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且有持續洩漏的情形。毒災應變諮詢中心出動偵測小組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     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與應變人員趕赴現場支援，經過偵測確認濃度為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15PP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     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低於容許濃度後，開始進行清櫃與止漏工作。於下午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5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：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     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30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完成止漏，解除災害狀況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352B-7E0A-4328-A137-4A6FBFEED9E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-10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華康細圓體"/>
                <a:ea typeface="華康細圓體"/>
              </a:rPr>
              <a:t>仁愛游泳池疑似氯氣外洩事故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16000" y="836640"/>
            <a:ext cx="7777080" cy="60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1.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發生時間：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91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年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7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月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12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日晚上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7:5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2.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發生地點：台北縣蘆洲市民族路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488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號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-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仁愛游泳池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3.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受傷人員：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18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人送醫，其中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3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人住院觀察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4.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化學品：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1.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漂白水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(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次氯酸鈉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)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：用途為游泳池消毒用藥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                     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2.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酸液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(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檸檬酸、鹽酸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)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：用於調整泳池的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PH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值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5.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事故簡述：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7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月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12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日晚上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7:50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左右，某化學公司進行仁愛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細圓體"/>
              </a:rPr>
              <a:t>                         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游泳池漂白水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(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次氯酸鈉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)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灌裝過程中，誤將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                         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漂白水打入酸槽中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(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檸檬酸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)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，導致次氯酸鈉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                         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與檸檬酸起化學反應，產生低濃度的氯氣，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                         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泳客在吸入氯氣後身體不適送醫。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細圓體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216F-850D-4FE8-93E5-EFDEAF831F1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-1080"/>
            <a:ext cx="919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Tahoma"/>
                <a:ea typeface="華康細圓體"/>
              </a:rPr>
              <a:t>德豐祥苯乙烯及水膠儲槽外洩事故</a:t>
            </a:r>
            <a:r>
              <a:rPr b="0" lang="zh-TW" sz="1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42920" y="836640"/>
            <a:ext cx="7777080" cy="60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1.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發生時間：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91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年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7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月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19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日 下午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3:2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2.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發生地點：桃園縣八德市建國路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868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號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-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德豐祥公司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3.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受傷人員：無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4.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化學品：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1.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苯乙烯單體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(SM)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：製作水膠的原料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                     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2.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水膠：用於製作壓克力，衣服纖維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5.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事故簡述：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7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月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19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日下午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3:20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左右，德豐祥公司委託台慶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                        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機械公司進行廠房整地與儲槽搬運工作時，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細圓體"/>
              </a:rPr>
              <a:t>                        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員工不慎以堆高機將兩個化學桶槽戳破，造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                        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成苯乙烯及水膠外洩，現場瀰漫濃烈刺鼻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                        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位，大量洩漏液因大雨關係沿污水道漫流。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9B30-673C-46EF-8569-100D3D7DE76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-10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Tahoma"/>
                <a:ea typeface="華康細圓體"/>
              </a:rPr>
              <a:t>埤頭鄉外環道氯乙烯槽車外洩事故</a:t>
            </a:r>
            <a:r>
              <a:rPr b="0" lang="zh-TW" sz="18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42920" y="907920"/>
            <a:ext cx="784872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1.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發生時間：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91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年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7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月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26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日 凌晨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00:3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2.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發生地點：彰化縣埤頭鄉外環道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19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號省道附近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-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輝宇公司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3.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受傷人員：司機死亡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(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因車禍受傷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4.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化學品：氯乙烯單體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(VCM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5.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事故簡述：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7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月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26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日凌晨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00:15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左右，輝宇公司運送氯乙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                        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烯的槽車發生車禍，司機受傷過重死亡，氯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                        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乙烯槽體底部因碰撞導致些微洩漏，有白煙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細圓體"/>
              </a:rPr>
              <a:t>                        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產生，且白煙有下降的趨勢，消防人員緊急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                        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以大量水霧冷卻槽體，輝宇公司緊急應變人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                        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員趕赴現場處理，將槽體緊急止漏後運回頭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                        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份華夏公司洩料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694C-18C9-422A-8E14-3A2107AD04D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1440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平鎮淨水場氯氣事故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917640"/>
            <a:ext cx="8001000" cy="50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1.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發生時間：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91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年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8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月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27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日 上午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10:2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2.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發生地點：桃園縣平鎮市湧安里南豐路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267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號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3.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受傷人員：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38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人送醫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4.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化學品：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1.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氯氣：消毒用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5.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事故簡述：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8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月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27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日上午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10:20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左右，淨水場淨水股陳股長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   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接獲敬鵬公司員工電話反應，聞到刺激性氯氣味道，陳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   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股長會同四位處理人員，著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A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級防護衣進入關閉氯桶開關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   </a:t>
            </a:r>
            <a:r>
              <a:rPr b="1" lang="zh-TW" sz="2400" spc="-1" strike="noStrike">
                <a:solidFill>
                  <a:srgbClr val="ff9900"/>
                </a:solidFill>
                <a:latin typeface="Arial Narrow"/>
                <a:ea typeface="華康細圓體"/>
              </a:rPr>
              <a:t>消防隊員亦於</a:t>
            </a:r>
            <a:r>
              <a:rPr b="1" lang="zh-TW" sz="2400" spc="-1" strike="noStrike">
                <a:solidFill>
                  <a:srgbClr val="ff9900"/>
                </a:solidFill>
                <a:latin typeface="Arial Narrow"/>
                <a:ea typeface="華康細圓體"/>
              </a:rPr>
              <a:t>10:25</a:t>
            </a:r>
            <a:r>
              <a:rPr b="1" lang="zh-TW" sz="2400" spc="-1" strike="noStrike">
                <a:solidFill>
                  <a:srgbClr val="ff9900"/>
                </a:solidFill>
                <a:latin typeface="Arial Narrow"/>
                <a:ea typeface="華康細圓體"/>
              </a:rPr>
              <a:t>抵達協助水霧噴灑，於</a:t>
            </a:r>
            <a:r>
              <a:rPr b="1" lang="zh-TW" sz="2400" spc="-1" strike="noStrike">
                <a:solidFill>
                  <a:srgbClr val="ff9900"/>
                </a:solidFill>
                <a:latin typeface="Arial Narrow"/>
                <a:ea typeface="華康細圓體"/>
              </a:rPr>
              <a:t>10:40</a:t>
            </a:r>
            <a:r>
              <a:rPr b="1" lang="zh-TW" sz="2400" spc="-1" strike="noStrike">
                <a:solidFill>
                  <a:srgbClr val="ff9900"/>
                </a:solidFill>
                <a:latin typeface="Arial Narrow"/>
                <a:ea typeface="華康細圓體"/>
              </a:rPr>
              <a:t>完成止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9900"/>
                </a:solidFill>
                <a:latin typeface="Arial Narrow"/>
                <a:ea typeface="華康細圓體"/>
              </a:rPr>
              <a:t>   </a:t>
            </a:r>
            <a:r>
              <a:rPr b="1" lang="zh-TW" sz="2400" spc="-1" strike="noStrike">
                <a:solidFill>
                  <a:srgbClr val="ff9900"/>
                </a:solidFill>
                <a:latin typeface="Arial Narrow"/>
                <a:ea typeface="華康細圓體"/>
              </a:rPr>
              <a:t>並開始通風排氣，此事件造成附近工業區各工廠</a:t>
            </a:r>
            <a:r>
              <a:rPr b="1" lang="zh-TW" sz="2400" spc="-1" strike="noStrike">
                <a:solidFill>
                  <a:srgbClr val="ff9900"/>
                </a:solidFill>
                <a:latin typeface="Arial Narrow"/>
                <a:ea typeface="華康細圓體"/>
              </a:rPr>
              <a:t>37</a:t>
            </a:r>
            <a:r>
              <a:rPr b="1" lang="zh-TW" sz="2400" spc="-1" strike="noStrike">
                <a:solidFill>
                  <a:srgbClr val="ff9900"/>
                </a:solidFill>
                <a:latin typeface="Arial Narrow"/>
                <a:ea typeface="華康細圓體"/>
              </a:rPr>
              <a:t>位員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9900"/>
                </a:solidFill>
                <a:latin typeface="Arial Narrow"/>
                <a:ea typeface="華康細圓體"/>
              </a:rPr>
              <a:t>   </a:t>
            </a:r>
            <a:r>
              <a:rPr b="1" lang="zh-TW" sz="2400" spc="-1" strike="noStrike">
                <a:solidFill>
                  <a:srgbClr val="ff9900"/>
                </a:solidFill>
                <a:latin typeface="Arial Narrow"/>
                <a:ea typeface="華康細圓體"/>
              </a:rPr>
              <a:t>工送醫，另外還有</a:t>
            </a:r>
            <a:r>
              <a:rPr b="1" lang="zh-TW" sz="2400" spc="-1" strike="noStrike">
                <a:solidFill>
                  <a:srgbClr val="ff9900"/>
                </a:solidFill>
                <a:latin typeface="Arial Narrow"/>
                <a:ea typeface="華康細圓體"/>
              </a:rPr>
              <a:t>1</a:t>
            </a:r>
            <a:r>
              <a:rPr b="1" lang="zh-TW" sz="2400" spc="-1" strike="noStrike">
                <a:solidFill>
                  <a:srgbClr val="ff9900"/>
                </a:solidFill>
                <a:latin typeface="Arial Narrow"/>
                <a:ea typeface="華康細圓體"/>
              </a:rPr>
              <a:t>位消防同仁送醫。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6131-6C28-470D-82A2-BA36EBDE436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輝宇公司氯乙烯槽車事故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143000" y="917640"/>
            <a:ext cx="8001000" cy="50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1.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發生時間：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91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年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10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月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07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日 上午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04:5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2.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發生地點：苗栗縣造橋鄉台十三乙線段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3.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受傷人員：無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4.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化學品：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1.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氯乙烯：無外洩        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2.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柴油：破裂外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5.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事故簡述：輝宇通運公司運輸車輛於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AM4:55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行經台十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   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三乙線造橋段時，因當時路段並未設置路燈，而反光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   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標誌亦損毀，於事故地點突然衝出一隻小狗，駕駛因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Arial Narrow"/>
                <a:ea typeface="華康細圓體"/>
              </a:rPr>
              <a:t>   </a:t>
            </a:r>
            <a:r>
              <a:rPr b="1" lang="zh-TW" sz="2400" spc="-1" strike="noStrike">
                <a:solidFill>
                  <a:srgbClr val="ff9900"/>
                </a:solidFill>
                <a:latin typeface="Arial Narrow"/>
                <a:ea typeface="華康細圓體"/>
              </a:rPr>
              <a:t>閃避小狗而撞上不明之尖銳物（疑似貨櫃車之固定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9900"/>
                </a:solidFill>
                <a:latin typeface="Arial Narrow"/>
                <a:ea typeface="華康細圓體"/>
              </a:rPr>
              <a:t>   </a:t>
            </a:r>
            <a:r>
              <a:rPr b="1" lang="zh-TW" sz="2400" spc="-1" strike="noStrike">
                <a:solidFill>
                  <a:srgbClr val="ff9900"/>
                </a:solidFill>
                <a:latin typeface="Arial Narrow"/>
                <a:ea typeface="華康細圓體"/>
              </a:rPr>
              <a:t>栓），造成方向盤輪胎爆裂，而使車輛失控撞上安全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9900"/>
                </a:solidFill>
                <a:latin typeface="Arial Narrow"/>
                <a:ea typeface="華康細圓體"/>
              </a:rPr>
              <a:t>   </a:t>
            </a:r>
            <a:r>
              <a:rPr b="1" lang="zh-TW" sz="2400" spc="-1" strike="noStrike">
                <a:solidFill>
                  <a:srgbClr val="ff9900"/>
                </a:solidFill>
                <a:latin typeface="Arial Narrow"/>
                <a:ea typeface="華康細圓體"/>
              </a:rPr>
              <a:t>島槽車橫躺於路中，槽內物質並未洩漏，人員無傷亡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C962-8F7D-4494-80B0-F6C60D34515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9T06:09:57Z</dcterms:created>
  <dc:creator>790773</dc:creator>
  <dc:description/>
  <dc:language>en-US</dc:language>
  <cp:lastModifiedBy>aaa</cp:lastModifiedBy>
  <cp:lastPrinted>2000-09-22T06:43:47Z</cp:lastPrinted>
  <dcterms:modified xsi:type="dcterms:W3CDTF">2002-05-21T03:28:23Z</dcterms:modified>
  <cp:revision>101</cp:revision>
  <dc:subject/>
  <dc:title>無投影片標題</dc:title>
</cp:coreProperties>
</file>