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16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7CE-AECB-4474-BBCA-7FCB2F24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472-2545-4D33-AE62-C138C8B0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63A-1F86-47D4-8799-48EBDC9E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94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32232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066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694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32232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5239-FC03-41AF-8E46-A462E006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E18C-AF61-4372-B0D6-3C815F78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FB87-CB09-4375-AB1D-4F7F930A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7F66-70E0-4BCC-B521-23ED7158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5867-190C-405E-9783-75C35658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6668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7B7E-A5FD-4D1B-AE64-F4A84360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859C-1B5F-40AE-9204-83984E7C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6207-7F54-4766-979C-20524131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AB1A-7DB7-4A69-8B84-63158D77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oleObject" Target="../embeddings/oleObject2.bin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95D0-9A65-44FD-8042-2129B80C7E3C}" type="slidenum">
              <a:rPr b="0" lang="zh-TW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914400"/>
            <a:ext cx="6629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019920"/>
            <a:ext cx="8305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705000" y="6095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3399ff"/>
                </a:solidFill>
                <a:latin typeface="華康粗黑體"/>
                <a:ea typeface="華康粗黑體"/>
              </a:rPr>
              <a:t>工業技術研究院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91760" y="6248520"/>
            <a:ext cx="793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3399ff"/>
                </a:solidFill>
                <a:latin typeface="華康中黑體"/>
                <a:ea typeface="華康中黑體"/>
              </a:rPr>
              <a:t>環境與安全衛生技術發展中心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80800" y="6370560"/>
            <a:ext cx="207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ff"/>
                </a:solidFill>
                <a:latin typeface="Bookman Old Style"/>
              </a:rPr>
              <a:t>Industrial Technology Research Institut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527880" y="6508800"/>
            <a:ext cx="2311200" cy="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3399ff"/>
                </a:solidFill>
                <a:latin typeface="Times New Roman"/>
              </a:rPr>
              <a:t>Center for Environmental Safety &amp; Health Technology Development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6019920" y="6095880"/>
          <a:ext cx="476280" cy="44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19920" y="609588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" name=""/>
          <p:cNvGraphicFramePr/>
          <p:nvPr/>
        </p:nvGraphicFramePr>
        <p:xfrm>
          <a:off x="457200" y="6105600"/>
          <a:ext cx="743040" cy="752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57200" y="6105600"/>
                    <a:ext cx="74304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990720"/>
            <a:ext cx="9144000" cy="33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北區毒災應變諮詢中心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運作機制介紹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4038480"/>
            <a:ext cx="73152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標楷體"/>
                <a:ea typeface="標楷體"/>
              </a:rPr>
              <a:t>    </a:t>
            </a:r>
            <a:r>
              <a:rPr b="1" lang="zh-TW" sz="40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報告者：工研院  陳 范 倫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中華民國 九十一 年 六 月 十二 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災害發生時的功能與角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066680"/>
            <a:ext cx="82296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接獲通報後，立即傳送相關應變參考資料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Level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協助緊急諮詢，提供安全有效的應變處理建議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Level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Alternative"/>
                <a:ea typeface="Arial Alternative"/>
              </a:rPr>
              <a:t>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協助擴散模擬分析，建議安全管制疏散範圍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Level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協調毒災聯防小組，提供應變裝備器材與特殊工具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Level 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兩小時內到達災區現場協助應變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Level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啟動轄區諮詢專家學者至現場協助應變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Level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Alternative"/>
                <a:ea typeface="Arial Alternative"/>
              </a:rPr>
              <a:t>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災害現場毒化物空氣污染濃度分析鑑認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Level 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Alternative"/>
                <a:ea typeface="Arial Alternative"/>
              </a:rPr>
              <a:t>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災害現場毒化物土壤及水污染分析鑑認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(Level 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善後處理技術諮詢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(Level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災後事故調查及案例分析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(Level 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中心平時的功能與角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121932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協助政府單位、民間業者毒化物一般諮詢服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更新毒化物相關應變資料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(MSDS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、防救手冊、應變卡等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毒災應變處理前瞻技術研發工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建立及主導毒災聯防小組及應變隊之運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毒性化學物質運作廠資料建置與更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應變器材資料庫的收集與彙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Level 1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、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2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、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3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毒災應變訓練教材的撰寫與彙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6668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環保署與縣市環保局配合事項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219320"/>
            <a:ext cx="82296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毒災聯防小組重新納編與落實工作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月底前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毒化物運作工廠無預警測試工作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8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月底前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規劃建置毒化物運作廠場防救基本資料，包括應變資材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及廠場配置圖等應變相關資料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8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月中旬前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80880" indent="-380880" algn="just">
              <a:lnSpc>
                <a:spcPct val="75000"/>
              </a:lnSpc>
              <a:spcBef>
                <a:spcPts val="1500"/>
              </a:spcBef>
              <a:spcAft>
                <a:spcPts val="300"/>
              </a:spcAft>
              <a:buClr>
                <a:srgbClr val="ff33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災害事故調查彙整及案例分析工作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持續進行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100160" y="1219320"/>
          <a:ext cx="244944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00160" y="1219320"/>
                    <a:ext cx="2449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4457880" y="837720"/>
            <a:ext cx="4209840" cy="21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報  告  完  畢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敬  請  指  教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778280" y="3308400"/>
          <a:ext cx="3733920" cy="247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78280" y="3308400"/>
                    <a:ext cx="3733920" cy="24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災害類型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槽車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81160" y="1065240"/>
            <a:ext cx="693432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災害類型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工廠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19320" y="1090440"/>
            <a:ext cx="6858000" cy="46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災害類型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實驗室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57480" y="1116000"/>
            <a:ext cx="6781680" cy="46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1143000"/>
            <a:ext cx="6629400" cy="4519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災害類型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48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恐怖攻擊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毒  災  特  性</a:t>
            </a:r>
            <a:r>
              <a:rPr b="0" lang="zh-TW" sz="4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3000" y="990720"/>
            <a:ext cx="8001000" cy="55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可能伴隨重大火災及爆炸災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可能有大量傷患就醫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Arial Narrow"/>
                <a:ea typeface="華康粗圓體"/>
              </a:rPr>
              <a:t>需要大範圍封鎖與管制及疏散民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可能需要成立災民收容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需要確認濃度範圍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偵測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cc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可能伴隨大量污染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空氣、水、土壤、人員</a:t>
            </a:r>
            <a:r>
              <a:rPr b="1" lang="zh-TW" sz="2800" spc="-1" strike="noStrike">
                <a:solidFill>
                  <a:srgbClr val="ffcc00"/>
                </a:solidFill>
                <a:latin typeface="Arial Narrow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民眾會特別焦慮，需要長時間追蹤輔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事後的廢棄物清除處理困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9933"/>
                </a:solidFill>
                <a:latin typeface="Arial Narrow"/>
                <a:ea typeface="華康粗圓體"/>
              </a:rPr>
              <a:t>後續社會成本影響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毒災應變諮詢中心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905120" y="923760"/>
          <a:ext cx="3835440" cy="50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923760"/>
                    <a:ext cx="383544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334120" y="1228680"/>
            <a:ext cx="1066680" cy="44784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1447920"/>
            <a:ext cx="1295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標準楷書"/>
                <a:ea typeface="華康細圓體"/>
              </a:rPr>
              <a:t>基隆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105520" y="2743200"/>
            <a:ext cx="1295280" cy="11448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2514600"/>
            <a:ext cx="1523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全真標準楷書"/>
                <a:ea typeface="華康細圓體"/>
              </a:rPr>
              <a:t>花蓮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2066760"/>
            <a:ext cx="1905120" cy="8287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苗栗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438280" y="1609560"/>
            <a:ext cx="1981440" cy="67644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2209680"/>
            <a:ext cx="14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新竹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57600" y="1219320"/>
            <a:ext cx="1447920" cy="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1981080"/>
            <a:ext cx="838080" cy="22860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19810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宜蘭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133360" y="1371600"/>
            <a:ext cx="2514600" cy="22860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1371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桃園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990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台北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752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金門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2133720" y="1971720"/>
            <a:ext cx="380880" cy="8568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台中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133720" y="2514240"/>
            <a:ext cx="1904760" cy="67644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4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彰化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133720" y="2971440"/>
            <a:ext cx="1447560" cy="60948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嘉義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133720" y="3428640"/>
            <a:ext cx="1143000" cy="60948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南投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Times New Roman"/>
                <a:ea typeface="華康細圓體"/>
              </a:rPr>
              <a:t>雲林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4267080" y="3161880"/>
            <a:ext cx="1447920" cy="26676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3657240" y="3657600"/>
            <a:ext cx="1676520" cy="5335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49528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台東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4648320" y="4495680"/>
            <a:ext cx="380880" cy="60984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屏東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352320" y="5105520"/>
            <a:ext cx="685800" cy="45720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76520" y="4876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高雄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047760" y="4572000"/>
            <a:ext cx="685800" cy="5335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7920" y="4343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台南縣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819160" y="4114800"/>
            <a:ext cx="685800" cy="5335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4343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ff00"/>
                </a:solidFill>
                <a:latin typeface="Times New Roman"/>
                <a:ea typeface="華康細圓體"/>
              </a:rPr>
              <a:t>澎湖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295280" y="3581280"/>
            <a:ext cx="990720" cy="990720"/>
          </a:xfrm>
          <a:prstGeom prst="line">
            <a:avLst/>
          </a:prstGeom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4114800"/>
            <a:ext cx="3812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43800" y="4038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北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4572000"/>
            <a:ext cx="381240" cy="304920"/>
          </a:xfrm>
          <a:prstGeom prst="rect">
            <a:avLst/>
          </a:prstGeom>
          <a:solidFill>
            <a:srgbClr val="eaeaea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中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238880" y="5029200"/>
            <a:ext cx="38124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495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南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1100160"/>
            <a:ext cx="784872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一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對象：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環保署與轄區縣市環保單位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其他相關政府單位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轄區運作業者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二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緊急諮詢方式：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上班時間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8:00~17:30)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專線</a:t>
            </a:r>
            <a:r>
              <a:rPr b="1" lang="zh-TW" sz="26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-</a:t>
            </a:r>
            <a:r>
              <a:rPr b="1" lang="zh-TW" sz="2600" spc="-1" strike="noStrike" u="sng">
                <a:solidFill>
                  <a:srgbClr val="ffcc00"/>
                </a:solidFill>
                <a:uFillTx/>
                <a:latin typeface="Arial Narrow"/>
                <a:ea typeface="華康細圓體"/>
              </a:rPr>
              <a:t>0800057119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2.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下班時間與例假日：大哥大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-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952330005~8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(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三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)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非緊急諮詢方式：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35917777</a:t>
            </a:r>
            <a:r>
              <a:rPr b="1" lang="zh-TW" sz="26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、</a:t>
            </a:r>
            <a:r>
              <a:rPr b="1" lang="zh-TW" sz="2600" spc="-1" strike="noStrike" u="sng">
                <a:solidFill>
                  <a:srgbClr val="ff9933"/>
                </a:solidFill>
                <a:uFillTx/>
                <a:latin typeface="Arial Narrow"/>
                <a:ea typeface="華康細圓體"/>
              </a:rPr>
              <a:t>03-5916140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228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4</a:t>
            </a:r>
            <a:r>
              <a:rPr b="1" lang="zh-TW" sz="36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小時緊急諮詢服務流程與方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DSC00003" descr=""/>
          <p:cNvPicPr/>
          <p:nvPr/>
        </p:nvPicPr>
        <p:blipFill>
          <a:blip r:embed="rId2"/>
          <a:stretch/>
        </p:blipFill>
        <p:spPr>
          <a:xfrm>
            <a:off x="5562720" y="1523880"/>
            <a:ext cx="2971800" cy="22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北區毒災應變諮詢中心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95280" y="97164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01:20:15Z</dcterms:created>
  <dc:creator>aaa</dc:creator>
  <dc:description/>
  <dc:language>en-US</dc:language>
  <cp:lastModifiedBy>aaa</cp:lastModifiedBy>
  <dcterms:modified xsi:type="dcterms:W3CDTF">2002-06-10T01:09:27Z</dcterms:modified>
  <cp:revision>50</cp:revision>
  <dc:subject/>
  <dc:title>PowerPoint 簡報</dc:title>
</cp:coreProperties>
</file>