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8ED-515C-4663-8CF9-8A13EE6B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B722-FB94-42C9-B225-861FDBC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2D8-A451-43ED-AAFF-C8EE99F7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F87-8F0B-4692-A2B9-1BB8074B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F5E-837A-4B31-8A03-8036576DA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509C-DFB1-4B34-B06F-3352B304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23C5-2E42-4C31-8D22-B94C673A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16AD-FA98-4A54-AE59-948CF6695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B83-8777-4013-91CE-1BB1930D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4616-8749-4E21-9B5F-5CB6556F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E03-672E-4B3E-86F9-39A8B6E2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24BF-165F-4E37-8972-025D2495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FC9B-BA71-41D2-94A8-778CCD05DE8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4960" y="19051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毒化物災害案例分析與緊急應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陳政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 環安系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行政院環境保護署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國立高雄第一科技大學合設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南區毒災應變諮詢中心 主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529-9E72-4989-83F2-4A59319BC9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分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Taichung9" descr=""/>
          <p:cNvPicPr/>
          <p:nvPr/>
        </p:nvPicPr>
        <p:blipFill>
          <a:blip r:embed="rId3"/>
          <a:stretch/>
        </p:blipFill>
        <p:spPr>
          <a:xfrm>
            <a:off x="762120" y="1371600"/>
            <a:ext cx="6781680" cy="52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80E7-3BD0-48A2-BBCA-ED03787D7C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94680" y="9907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80880" y="2666880"/>
            <a:ext cx="8288280" cy="208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916-AE97-43BA-86B6-2E9BA8E7E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905520" y="2819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製程尾氣風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6704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7660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838080" y="0"/>
          <a:ext cx="4735800" cy="671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0"/>
                    <a:ext cx="4735800" cy="671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E02-D3D5-4B64-984F-305303C2C3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1-1" descr=""/>
          <p:cNvPicPr/>
          <p:nvPr/>
        </p:nvPicPr>
        <p:blipFill>
          <a:blip r:embed="rId3"/>
          <a:stretch/>
        </p:blipFill>
        <p:spPr>
          <a:xfrm>
            <a:off x="1214280" y="1566720"/>
            <a:ext cx="6320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9FD-9367-43DA-95FB-F89C7A37AE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高雄市楠梓區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太平洋醫療器公司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67080" y="18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4479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環氧乙烷毒性資料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主要是引起鼻子、喉嚨和呼吸道刺激及抑制中樞神經系統，如頭痛、噁心、嘔吐，若暴露於更高濃度可能發生嗜睡、頭痛、衰弱、動作不協調和喪失意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皮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在皮膚潮濕或油滑部位可能產生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眼睛：引發輕微刺激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食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於常溫常壓下是氣體，若食入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EO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液體會引起抑制中樞神經系統，症狀如吸入所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D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72mg/kg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大鼠，吞食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Arial Unicode MS"/>
                <a:ea typeface="標楷體"/>
              </a:rPr>
              <a:t>LC50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0" lang="zh-TW" sz="2400" spc="-1" strike="noStrike">
                <a:solidFill>
                  <a:srgbClr val="000000"/>
                </a:solidFill>
                <a:latin typeface="Arial Unicode MS"/>
                <a:ea typeface="標楷體"/>
              </a:rPr>
              <a:t>800ppm/4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四小時，大鼠、吸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ppm/6H(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懷孕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6-15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天雌鼠，吸入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造成胚胎中毒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CGIH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將之列為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A2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疑似人類致癌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19D-8007-42C6-9907-8A189ADAEC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60240" y="1755720"/>
            <a:ext cx="77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不同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規模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>
                <a:solidFill>
                  <a:srgbClr val="ff0000"/>
                </a:solidFill>
                <a:latin typeface="標楷體"/>
                <a:ea typeface="標楷體"/>
              </a:rPr>
              <a:t>型態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毒災救災的標準操作步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 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聯防小組之溝通與功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強化災後處理工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災救災設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建立基本毒化物檢測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結論與建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D080-5288-4CCE-82B8-832AD7EC6E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0240" y="1755720"/>
            <a:ext cx="77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及時性毒化物災害現場應變的協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於</a:t>
            </a:r>
            <a:r>
              <a:rPr b="1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災害通報後兩小時內到達災害現場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進行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現場毒化物採樣、分析、鑑認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協助現場指揮與疏散、現場搶救技術諮詢、災後除污技術諮詢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性毒化物災害預防與應變技術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包括毒化物相關資訊與資料庫收集、提供毒化物災害資訊、毒化物採樣、分析與、鑑認技術的建立與輔導、災害應變演練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600" y="10173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南區毒災諮詢應變中心長程目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A0E-40E1-4435-BB7D-9A10B4EC3C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5640" y="1419120"/>
            <a:ext cx="7786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一般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華康中楷體"/>
                <a:ea typeface="標楷體"/>
              </a:rPr>
              <a:t>包含一般化學品安全相關問題、災害應變資訊、一般性安全衛生問題、法令規範、安全衛生改善措施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 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傳真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1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緊急諮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主要針對發生中的毒性化學物質洩漏、爆炸及火災之事故先提供電話諮詢服務，並於接到通報後兩小時內到達事故現場，提供救災之諮詢。緊急諮詢為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二十四小時服務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日間有諮詢員輪值，夜間則透過轉接給待命之緊急員。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華康中楷體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服務專線：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07-60112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敬請不吝指正</a:t>
            </a:r>
            <a:r>
              <a:rPr b="0" lang="zh-TW" sz="3200" spc="-1" strike="noStrike">
                <a:solidFill>
                  <a:srgbClr val="ff0066"/>
                </a:solidFill>
                <a:latin typeface="Times New Roman"/>
                <a:ea typeface="標楷體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諮詢服務內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582-2FDF-4278-965F-A072DAE448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52280" y="838080"/>
            <a:ext cx="88394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7848720" y="152280"/>
          <a:ext cx="99540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2280"/>
                    <a:ext cx="99540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465840" y="228600"/>
            <a:ext cx="357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8640" y="1701720"/>
            <a:ext cx="77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6/10/1996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台中港西碼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倉儲公司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/10/1997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新竹科學園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半導體廠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機臺尾氣風管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事故原因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/23/2001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高雄市楠梓區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太平洋醫療器材公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環氧乙烷 鋼瓶</a:t>
            </a:r>
            <a:r>
              <a:rPr b="0" lang="zh-TW" sz="2400" spc="-1" strike="noStrike">
                <a:solidFill>
                  <a:srgbClr val="ff0000"/>
                </a:solidFill>
                <a:latin typeface="Times New Roman"/>
                <a:ea typeface="標楷體"/>
              </a:rPr>
              <a:t>/</a:t>
            </a:r>
            <a:r>
              <a:rPr b="0" lang="zh-TW" sz="2400" spc="-1" strike="noStrike">
                <a:solidFill>
                  <a:srgbClr val="008000"/>
                </a:solidFill>
                <a:latin typeface="Times New Roman"/>
                <a:ea typeface="標楷體"/>
              </a:rPr>
              <a:t>火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	</a:t>
            </a:r>
            <a:r>
              <a:rPr b="0" lang="zh-TW" sz="2400" spc="-1" strike="noStrike">
                <a:solidFill>
                  <a:srgbClr val="ff00ff"/>
                </a:solidFill>
                <a:latin typeface="Times New Roman"/>
                <a:ea typeface="標楷體"/>
              </a:rPr>
              <a:t>到場協助至災後處理完成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869760"/>
            <a:ext cx="8470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事故分析與緊急應變實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15AD-124A-4E4E-A713-05D51097FD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533520" y="1523880"/>
            <a:ext cx="8381520" cy="4114440"/>
            <a:chOff x="533520" y="1523880"/>
            <a:chExt cx="8381520" cy="4114440"/>
          </a:xfrm>
        </p:grpSpPr>
        <p:sp>
          <p:nvSpPr>
            <p:cNvPr id="74" name=""/>
            <p:cNvSpPr/>
            <p:nvPr/>
          </p:nvSpPr>
          <p:spPr>
            <a:xfrm>
              <a:off x="533520" y="1523880"/>
              <a:ext cx="90324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36760" y="1523880"/>
              <a:ext cx="891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7760" y="1523880"/>
              <a:ext cx="126432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92440" y="1523880"/>
              <a:ext cx="53226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自南韓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Yosu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港出港後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8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海浬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氣爆火災撲滅後補漏，油料受海水污染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3520" y="232236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436760" y="232236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六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7760" y="232236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92440" y="232236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抵港靠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20" y="279288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36760" y="279288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7760" y="279288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5: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92440" y="279288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完成接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3520" y="3263760"/>
              <a:ext cx="90324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36760" y="3263760"/>
              <a:ext cx="8910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327760" y="3263760"/>
              <a:ext cx="126432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2440" y="3263760"/>
              <a:ext cx="5322600" cy="63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，收艙拆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含船體部分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br>
                <a:rPr sz="2000"/>
              </a:b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共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,0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餘噸，灌裝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3520" y="3898440"/>
              <a:ext cx="90324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436760" y="3898440"/>
              <a:ext cx="8910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7760" y="3898440"/>
              <a:ext cx="12643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92440" y="3898440"/>
              <a:ext cx="532260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吹管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520" y="436932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36760" y="436932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27760" y="436932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9: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2440" y="436932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前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前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分鐘卸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1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3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520" y="5004000"/>
              <a:ext cx="90324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36760" y="5004000"/>
              <a:ext cx="8910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27760" y="5004000"/>
              <a:ext cx="126432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92440" y="5004000"/>
              <a:ext cx="5322600" cy="63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將油水分離後之後段油料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約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900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灌裝入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1,C2,C3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及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D2</a:t>
              </a:r>
              <a:r>
                <a:rPr b="0" lang="zh-TW" sz="20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等槽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9B9A-DB6D-4F7E-ACDA-8718E3A8A6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828800" y="1066680"/>
          <a:ext cx="4943520" cy="509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066680"/>
                    <a:ext cx="4943520" cy="509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8834-A00A-43DA-8CD6-2F70C98400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05120" y="84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838080"/>
            <a:ext cx="4572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523880"/>
            <a:ext cx="8152920" cy="4571640"/>
            <a:chOff x="609480" y="1523880"/>
            <a:chExt cx="8152920" cy="4571640"/>
          </a:xfrm>
        </p:grpSpPr>
        <p:sp>
          <p:nvSpPr>
            <p:cNvPr id="121" name=""/>
            <p:cNvSpPr/>
            <p:nvPr/>
          </p:nvSpPr>
          <p:spPr>
            <a:xfrm>
              <a:off x="609480" y="152388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0/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88240" y="152388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週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55120" y="152388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4880" y="152388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卸料完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80" y="2206440"/>
              <a:ext cx="878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88240" y="2206440"/>
              <a:ext cx="866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55120" y="2206440"/>
              <a:ext cx="122976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0: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84880" y="2206440"/>
              <a:ext cx="5177520" cy="11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C3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槽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內部液面高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1.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以壓縮空氣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5kg/cm2)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再次吹管，於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4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次吹管時發生爆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9480" y="33645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488240" y="33645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55120" y="33645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02: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84880" y="33645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9480" y="4047480"/>
              <a:ext cx="878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8240" y="4047480"/>
              <a:ext cx="866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55120" y="4047480"/>
              <a:ext cx="12297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7:5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84880" y="4047480"/>
              <a:ext cx="517752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化學運輸輪出港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(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裝載約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2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噸污染油料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480" y="473040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88240" y="473040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55120" y="473040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8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4880" y="473040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於南堤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00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公尺外海，第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5</a:t>
              </a: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艙發生爆炸起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5412960"/>
              <a:ext cx="878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88240" y="5412960"/>
              <a:ext cx="866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55120" y="5412960"/>
              <a:ext cx="122976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19: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4880" y="5412960"/>
              <a:ext cx="5177520" cy="6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00"/>
                  </a:solidFill>
                  <a:latin typeface="Arial Narrow"/>
                  <a:ea typeface="全真中黑體"/>
                </a:rPr>
                <a:t>火勢控制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9FFA-60C7-4D17-8ADD-5FF4C36C7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5305320" y="1447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儲槽火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52680" y="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85800" y="76320"/>
          <a:ext cx="4238640" cy="678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76320"/>
                    <a:ext cx="4238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F73-9A6B-4F48-8072-CCC0DD6D17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077320" y="152280"/>
          <a:ext cx="914400" cy="6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152280"/>
                    <a:ext cx="9144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52280" y="152280"/>
            <a:ext cx="424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National Kaohsiung First Univers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Black"/>
                <a:ea typeface="細明體"/>
              </a:rPr>
              <a:t>of Science &amp;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2560" y="84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0000"/>
                </a:solidFill>
                <a:latin typeface="Times New Roman"/>
                <a:ea typeface="標楷體"/>
              </a:rPr>
              <a:t>溶劑成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0024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33520" y="1371600"/>
            <a:ext cx="7923960" cy="4723920"/>
            <a:chOff x="533520" y="1371600"/>
            <a:chExt cx="7923960" cy="4723920"/>
          </a:xfrm>
        </p:grpSpPr>
        <p:sp>
          <p:nvSpPr>
            <p:cNvPr id="160" name=""/>
            <p:cNvSpPr/>
            <p:nvPr/>
          </p:nvSpPr>
          <p:spPr>
            <a:xfrm>
              <a:off x="556200" y="177336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istillation ran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12880" y="177336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07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77480" y="177336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6200" y="21754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Initial boiling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12880" y="21754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480" y="21754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6200" y="25776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End point,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12880" y="25776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77480" y="25776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00" y="29797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P Gravity at 16.6     5.6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12880" y="29797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77480" y="29797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6200" y="353268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Flash point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2880" y="353268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9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77480" y="353268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6200" y="3934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Colour, SAYBO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2880" y="3934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7480" y="3934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   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56200" y="433692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Sulfur %W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12880" y="433692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126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77480" y="433692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0.0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6200" y="473904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romatics by vol % M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12880" y="473904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31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77480" y="473904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6200" y="5140800"/>
              <a:ext cx="385632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alphatics by vol % MA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12880" y="5140800"/>
              <a:ext cx="2064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D8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77480" y="5140800"/>
              <a:ext cx="186804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6200" y="5542920"/>
              <a:ext cx="385632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Viscosity Kinematics Cst (40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℃</a:t>
              </a: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12880" y="5542920"/>
              <a:ext cx="206460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  <a:ea typeface="細明體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77480" y="5542920"/>
              <a:ext cx="186804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  <a:ea typeface="CG Times (WN)"/>
                </a:rPr>
                <a:t>3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33520" y="1371600"/>
              <a:ext cx="3901680" cy="401760"/>
              <a:chOff x="533520" y="1371600"/>
              <a:chExt cx="3901680" cy="401760"/>
            </a:xfrm>
          </p:grpSpPr>
          <p:sp>
            <p:nvSpPr>
              <p:cNvPr id="191" name=""/>
              <p:cNvSpPr/>
              <p:nvPr/>
            </p:nvSpPr>
            <p:spPr>
              <a:xfrm>
                <a:off x="556200" y="1371600"/>
                <a:ext cx="385632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Propert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33520" y="1371600"/>
                <a:ext cx="390168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435560" y="1371600"/>
              <a:ext cx="2109240" cy="401760"/>
              <a:chOff x="4435560" y="1371600"/>
              <a:chExt cx="2109240" cy="401760"/>
            </a:xfrm>
          </p:grpSpPr>
          <p:sp>
            <p:nvSpPr>
              <p:cNvPr id="194" name=""/>
              <p:cNvSpPr/>
              <p:nvPr/>
            </p:nvSpPr>
            <p:spPr>
              <a:xfrm>
                <a:off x="4457520" y="1371600"/>
                <a:ext cx="20642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Test metho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35560" y="1371600"/>
                <a:ext cx="210924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6545160" y="1371600"/>
              <a:ext cx="1912320" cy="401760"/>
              <a:chOff x="6545160" y="1371600"/>
              <a:chExt cx="1912320" cy="401760"/>
            </a:xfrm>
          </p:grpSpPr>
          <p:sp>
            <p:nvSpPr>
              <p:cNvPr id="197" name=""/>
              <p:cNvSpPr/>
              <p:nvPr/>
            </p:nvSpPr>
            <p:spPr>
              <a:xfrm>
                <a:off x="6567120" y="1371600"/>
                <a:ext cx="186768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CG Times (WN)"/>
                  </a:rPr>
                  <a:t>HS-22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545160" y="1371600"/>
                <a:ext cx="1912320" cy="401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5363-6E22-443B-9EE8-CD1380C856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7:10:41Z</dcterms:created>
  <dc:creator>jami</dc:creator>
  <dc:description/>
  <dc:language>en-US</dc:language>
  <cp:lastModifiedBy>陳政任</cp:lastModifiedBy>
  <dcterms:modified xsi:type="dcterms:W3CDTF">2002-06-07T10:03:25Z</dcterms:modified>
  <cp:revision>72</cp:revision>
  <dc:subject/>
  <dc:title>PowerPoint 簡報</dc:title>
</cp:coreProperties>
</file>