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4EB-B1B4-4730-812B-627C9246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848-448D-4CCF-A5BE-3B81B076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3EB-3AAC-4D84-983A-E4B6EF08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8A4-3411-4372-BE3E-2BE9D6C8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C25-832F-408B-B23F-49900F2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2AC-6376-4AB1-98A7-3E62A81B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ADA-4356-4B91-93FD-B4F57131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810-1976-4BFE-B0CB-97E9F27E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B39-2BE0-4E98-A0BA-DA7F1C5D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69F-BAFE-40A3-9358-26DEBC1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267-D601-4CD3-BCD3-90D4F0CE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F8A-C127-4AAB-9248-7BB2D065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F361-ACBA-4FBB-9DF4-5A76BCC7E995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" name=""/>
          <p:cNvGraphicFramePr/>
          <p:nvPr/>
        </p:nvGraphicFramePr>
        <p:xfrm>
          <a:off x="457200" y="6105600"/>
          <a:ext cx="743040" cy="752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6105600"/>
                    <a:ext cx="743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北區毒災應變諮詢中心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運作機制介紹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038480"/>
            <a:ext cx="73152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    </a:t>
            </a:r>
            <a:r>
              <a:rPr b="1" lang="zh-TW" sz="40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報告者：工研院  陳 范 倫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中華民國 九十一 年 六 月 十二 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災害發生時的功能與角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接獲通報後，立即傳送相關應變參考資料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緊急諮詢，提供安全有效的應變處理建議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擴散模擬分析，建議安全管制疏散範圍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調毒災聯防小組，提供應變裝備器材與特殊工具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兩小時內到達災區現場協助應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啟動轄區諮詢專家學者至現場協助應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災害現場毒化物空氣污染濃度分析鑑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災害現場毒化物土壤及水污染分析鑑認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善後處理技術諮詢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災後事故調查及案例分析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中心平時的功能與角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2193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政府單位、民間業者毒化物一般諮詢服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更新毒化物相關應變資料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MSDS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、防救手冊、應變卡等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毒災應變處理前瞻技術研發工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建立及主導毒災聯防小組及應變隊之運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性化學物質運作廠資料建置與更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應變器材資料庫的收集與彙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Level 1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、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、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3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災應變訓練教材的撰寫與彙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環保署與縣市環保局配合事項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219320"/>
            <a:ext cx="8229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災聯防小組重新納編與落實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底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化物運作工廠無預警測試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底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規劃建置毒化物運作廠場防救基本資料，包括應變資材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及廠場配置圖等應變相關資料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中旬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災害事故調查彙整及案例分析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持續進行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100160" y="1219320"/>
          <a:ext cx="244944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0160" y="1219320"/>
                    <a:ext cx="2449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457880" y="837720"/>
            <a:ext cx="42098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報  告  完  畢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敬  請  指  教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78280" y="3308400"/>
          <a:ext cx="3733920" cy="247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78280" y="3308400"/>
                    <a:ext cx="373392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槽車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1160" y="1065240"/>
            <a:ext cx="693432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工廠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1090440"/>
            <a:ext cx="6858000" cy="46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實驗室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7480" y="1116000"/>
            <a:ext cx="678168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恐怖攻擊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毒  災  特  性</a:t>
            </a:r>
            <a:r>
              <a:rPr b="0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990720"/>
            <a:ext cx="800100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可能伴隨重大火災及爆炸災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可能有大量傷患就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需要大範圍封鎖與管制及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可能需要成立災民收容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需要確認濃度範圍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偵測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可能伴隨大量污染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空氣、水、土壤、人員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民眾會特別焦慮，需要長時間追蹤輔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事後的廢棄物清除處理困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後續社會成本影響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毒災應變諮詢中心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05120" y="923760"/>
          <a:ext cx="3835440" cy="50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923760"/>
                    <a:ext cx="38354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34120" y="1228680"/>
            <a:ext cx="1066680" cy="4478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14479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標準楷書"/>
                <a:ea typeface="華康細圓體"/>
              </a:rPr>
              <a:t>基隆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5520" y="2743200"/>
            <a:ext cx="1295280" cy="114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25146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標準楷書"/>
                <a:ea typeface="華康細圓體"/>
              </a:rPr>
              <a:t>花蓮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2066760"/>
            <a:ext cx="1905120" cy="8287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苗栗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438280" y="1609560"/>
            <a:ext cx="1981440" cy="6764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2096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新竹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57600" y="1219320"/>
            <a:ext cx="144792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981080"/>
            <a:ext cx="838080" cy="2286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981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宜蘭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133360" y="1371600"/>
            <a:ext cx="2514600" cy="2286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371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桃園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台北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金門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133720" y="1971720"/>
            <a:ext cx="380880" cy="856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台中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33720" y="2514240"/>
            <a:ext cx="1904760" cy="6764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彰化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133720" y="2971440"/>
            <a:ext cx="1447560" cy="609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嘉義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133720" y="3428640"/>
            <a:ext cx="1143000" cy="609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南投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雲林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267080" y="3161880"/>
            <a:ext cx="1447920" cy="26676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657240" y="3657600"/>
            <a:ext cx="167652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台東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648320" y="4495680"/>
            <a:ext cx="380880" cy="6098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屏東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352320" y="5105520"/>
            <a:ext cx="685800" cy="4572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高雄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47760" y="4572000"/>
            <a:ext cx="68580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台南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819160" y="4114800"/>
            <a:ext cx="68580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澎湖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295280" y="3581280"/>
            <a:ext cx="990720" cy="9907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114800"/>
            <a:ext cx="381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北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4572000"/>
            <a:ext cx="38124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中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029200"/>
            <a:ext cx="38124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南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1100160"/>
            <a:ext cx="784872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對象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署與轄區縣市環保單位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其他相關政府單位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轄區運作業者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緊急諮詢方式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上班時間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8:00~17:30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專線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cc00"/>
                </a:solidFill>
                <a:uFillTx/>
                <a:latin typeface="Arial Narrow"/>
                <a:ea typeface="華康細圓體"/>
              </a:rPr>
              <a:t>0800057119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下班時間與例假日：大哥大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952330005~8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三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非緊急諮詢方式：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5917777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、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-5916140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4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小時緊急諮詢服務流程與方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DSC00003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北區毒災應變諮詢中心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97164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01:20:15Z</dcterms:created>
  <dc:creator>aaa</dc:creator>
  <dc:description/>
  <dc:language>en-US</dc:language>
  <cp:lastModifiedBy>aaa</cp:lastModifiedBy>
  <dcterms:modified xsi:type="dcterms:W3CDTF">2002-06-10T01:09:27Z</dcterms:modified>
  <cp:revision>50</cp:revision>
  <dc:subject/>
  <dc:title>PowerPoint 簡報</dc:title>
</cp:coreProperties>
</file>