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FF6-3FAA-43F9-911A-F22F129D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111-FB9F-42BC-9B21-BF8D38A4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1F3-574C-4FFD-8933-360EFF4A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88F-39DF-4F43-B9DC-D467E85E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C86-B09F-49DA-A58F-3977F988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BAB-1604-422A-936D-6B0D6F55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5FC-2EB5-4EA6-ACCC-8DED58FE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DB3-1DCC-4F71-A5F8-839B424C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744-C54C-434C-869F-AB934451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668-FB0D-4933-BBCE-245717B3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6CC-1ED5-48A5-8323-07752697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3B6-0C66-489A-8EF0-09D61F6F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8D3C-5869-4233-984F-8E5EDE0CD4D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44960" y="19051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毒化物災害案例分析與緊急應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陳政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立高雄第一科技大學 環安系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副教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行政院環境保護署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立高雄第一科技大學合設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南區毒災應變諮詢中心 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659-1848-4BB0-ACD9-C0538643A4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成份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Taichung9" descr=""/>
          <p:cNvPicPr/>
          <p:nvPr/>
        </p:nvPicPr>
        <p:blipFill>
          <a:blip r:embed="rId3"/>
          <a:stretch/>
        </p:blipFill>
        <p:spPr>
          <a:xfrm>
            <a:off x="762120" y="1371600"/>
            <a:ext cx="6781680" cy="524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CDF-DB46-4B82-B854-07290D3E2B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94680" y="990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製程尾氣風管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670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80880" y="2666880"/>
            <a:ext cx="8288280" cy="20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EF7-D365-4A76-8E7E-F432437C08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905520" y="2819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製程尾氣風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670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766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38080" y="0"/>
          <a:ext cx="4735800" cy="671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0"/>
                    <a:ext cx="473580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F63-2619-4B15-AEAF-DF9CD5C2A4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高雄市楠梓區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太平洋醫療器公司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670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1-1" descr=""/>
          <p:cNvPicPr/>
          <p:nvPr/>
        </p:nvPicPr>
        <p:blipFill>
          <a:blip r:embed="rId3"/>
          <a:stretch/>
        </p:blipFill>
        <p:spPr>
          <a:xfrm>
            <a:off x="1214280" y="1566720"/>
            <a:ext cx="632016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F4F-8532-46A8-BAC4-29BF813C90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高雄市楠梓區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太平洋醫療器公司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670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4479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環氧乙烷毒性資料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吸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主要是引起鼻子、喉嚨和呼吸道刺激及抑制中樞神經系統，如頭痛、噁心、嘔吐，若暴露於更高濃度可能發生嗜睡、頭痛、衰弱、動作不協調和喪失意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皮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在皮膚潮濕或油滑部位可能產生刺激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眼睛：引發輕微刺激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食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EO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於常溫常壓下是氣體，若食入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EO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液體會引起抑制中樞神經系統，症狀如吸入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 Unicode MS"/>
                <a:ea typeface="標楷體"/>
              </a:rPr>
              <a:t>LD5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72mg/kg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鼠，吞食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 Unicode MS"/>
                <a:ea typeface="標楷體"/>
              </a:rPr>
              <a:t>LC5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800ppm/4H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四小時，大鼠、吸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ppm/6H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懷孕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-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雌鼠，吸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造成胚胎中毒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ppm/6H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懷孕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-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雌鼠，吸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造成胚胎中毒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GIH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之列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疑似人類致癌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7B6-6242-4D47-8676-C16DA0EEF3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0240" y="1755720"/>
            <a:ext cx="77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不同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規模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型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毒災救災的標準操作步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 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強化聯防小組之溝通與功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強化災後處理工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基本毒災救災設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基本毒化物檢測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4600" y="10173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結論與建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794-A0EB-40CD-8643-6B8C8F028E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0240" y="17557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及時性毒化物災害現場應變的協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包括於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災害通報後兩小時內到達災害現場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進行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現場毒化物採樣、分析、鑑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協助現場指揮與疏散、現場搶救技術諮詢、災後除污技術諮詢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一般性毒化物災害預防與應變技術諮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包括毒化物相關資訊與資料庫收集、提供毒化物災害資訊、毒化物採樣、分析與、鑑認技術的建立與輔導、災害應變演練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600" y="10173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南區毒災諮詢應變中心長程目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D19-A5D6-41F3-B011-1E747E6D08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640" y="1419120"/>
            <a:ext cx="7786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一般諮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楷體"/>
                <a:ea typeface="標楷體"/>
              </a:rPr>
              <a:t>包含一般化學品安全相關問題、災害應變資訊、一般性安全衛生問題、法令規範、安全衛生改善措施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專線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6011235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傳真專線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601123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緊急諮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主要針對發生中的毒性化學物質洩漏、爆炸及火災之事故先提供電話諮詢服務，並於接到通報後兩小時內到達事故現場，提供救災之諮詢。緊急諮詢為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二十四小時服務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日間有諮詢員輪值，夜間則透過轉接給待命之緊急員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專線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60112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敬請不吝指正</a:t>
            </a:r>
            <a:r>
              <a:rPr b="0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諮詢服務內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2E0-64F1-41EA-A9CA-55C7FC422C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640" y="1701720"/>
            <a:ext cx="77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/10/1996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台中港西碼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倉儲公司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火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事故原因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/10/1997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新竹科學園區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半導體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機臺尾氣風管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火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事故原因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/23/20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高雄市楠梓區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太平洋醫療器材公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環氧乙烷 鋼瓶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火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到場協助至災後處理完成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分析與緊急應變實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04D-3E38-4CA2-9ADF-458DEA3575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8380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3520" y="1523880"/>
            <a:ext cx="8381520" cy="4114440"/>
            <a:chOff x="533520" y="1523880"/>
            <a:chExt cx="8381520" cy="4114440"/>
          </a:xfrm>
        </p:grpSpPr>
        <p:sp>
          <p:nvSpPr>
            <p:cNvPr id="74" name=""/>
            <p:cNvSpPr/>
            <p:nvPr/>
          </p:nvSpPr>
          <p:spPr>
            <a:xfrm>
              <a:off x="533520" y="1523880"/>
              <a:ext cx="9032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36760" y="1523880"/>
              <a:ext cx="891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7760" y="1523880"/>
              <a:ext cx="12643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92440" y="1523880"/>
              <a:ext cx="53226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化學運輸輪自南韓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Yosu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港出港後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28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海浬前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2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艙發生氣爆火災撲滅後補漏，油料受海水污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520" y="2322360"/>
              <a:ext cx="903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/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36760" y="2322360"/>
              <a:ext cx="8910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週六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27760" y="2322360"/>
              <a:ext cx="1264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9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92440" y="2322360"/>
              <a:ext cx="53226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化學運輸輪抵港靠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20" y="2792880"/>
              <a:ext cx="903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36760" y="2792880"/>
              <a:ext cx="8910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7760" y="2792880"/>
              <a:ext cx="1264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5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92440" y="2792880"/>
              <a:ext cx="53226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完成接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20" y="3263760"/>
              <a:ext cx="90324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/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6760" y="3263760"/>
              <a:ext cx="89100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週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27760" y="3263760"/>
              <a:ext cx="12643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2: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92440" y="3263760"/>
              <a:ext cx="532260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卸料完成，收艙拆管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含船體部分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br>
                <a:rPr sz="2000"/>
              </a:b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共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3,00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餘噸，灌裝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C1,C2,C3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及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D2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等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520" y="3898440"/>
              <a:ext cx="903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36760" y="3898440"/>
              <a:ext cx="8910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27760" y="3898440"/>
              <a:ext cx="1264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2: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2440" y="3898440"/>
              <a:ext cx="53226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以壓縮空氣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5kg/cm2)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吹管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5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520" y="4369320"/>
              <a:ext cx="90324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36760" y="4369320"/>
              <a:ext cx="8910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27760" y="4369320"/>
              <a:ext cx="126432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9: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2440" y="4369320"/>
              <a:ext cx="53226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將油水分離後之前段油料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前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分鐘卸料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灌裝入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D1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槽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3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噸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520" y="5004000"/>
              <a:ext cx="90324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36760" y="5004000"/>
              <a:ext cx="8910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27760" y="5004000"/>
              <a:ext cx="126432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92440" y="5004000"/>
              <a:ext cx="53226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將油水分離後之後段油料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90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噸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再灌裝入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C1,C2,C3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及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D2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等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22B-67CC-4A51-93C6-6F8CE75B39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8380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828800" y="1066680"/>
          <a:ext cx="4943520" cy="509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066680"/>
                    <a:ext cx="4943520" cy="50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F18-5ED5-4546-8599-D8E3002551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8380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523880"/>
            <a:ext cx="8152920" cy="4571640"/>
            <a:chOff x="609480" y="1523880"/>
            <a:chExt cx="8152920" cy="4571640"/>
          </a:xfrm>
        </p:grpSpPr>
        <p:sp>
          <p:nvSpPr>
            <p:cNvPr id="121" name=""/>
            <p:cNvSpPr/>
            <p:nvPr/>
          </p:nvSpPr>
          <p:spPr>
            <a:xfrm>
              <a:off x="609480" y="152388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/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88240" y="152388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週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55120" y="152388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0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4880" y="152388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卸料完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2206440"/>
              <a:ext cx="87876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88240" y="2206440"/>
              <a:ext cx="86652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55120" y="2206440"/>
              <a:ext cx="122976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0: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4880" y="2206440"/>
              <a:ext cx="517752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C3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槽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內部液面高約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1.4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公尺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以壓縮空氣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5kg/cm2)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再次吹管，於第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4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次吹管時發生爆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480" y="336456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88240" y="336456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55120" y="336456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2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84880" y="336456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火勢控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80" y="4047480"/>
              <a:ext cx="8787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88240" y="4047480"/>
              <a:ext cx="8665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55120" y="4047480"/>
              <a:ext cx="12297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7:5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84880" y="4047480"/>
              <a:ext cx="51775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化學運輸輪出港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裝載約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200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噸污染油料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473040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88240" y="473040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55120" y="473040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8: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4880" y="473040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於南堤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500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公尺外海，第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5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艙發生爆炸起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541296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88240" y="541296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55120" y="541296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9: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4880" y="541296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火勢控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835-C587-4866-90E9-70860C7FCF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305320" y="1447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2680" y="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76320"/>
          <a:ext cx="4238640" cy="678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76320"/>
                    <a:ext cx="42386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E53-C16F-4739-9F92-5C5D1A5445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2560" y="84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成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3520" y="1371600"/>
            <a:ext cx="7923960" cy="4723920"/>
            <a:chOff x="533520" y="1371600"/>
            <a:chExt cx="7923960" cy="4723920"/>
          </a:xfrm>
        </p:grpSpPr>
        <p:sp>
          <p:nvSpPr>
            <p:cNvPr id="160" name=""/>
            <p:cNvSpPr/>
            <p:nvPr/>
          </p:nvSpPr>
          <p:spPr>
            <a:xfrm>
              <a:off x="556200" y="177336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istillation 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2880" y="177336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10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77480" y="177336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00" y="217548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Initial boiling point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12880" y="217548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480" y="217548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00" y="257760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End point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12880" y="257760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480" y="257760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00" y="2979720"/>
              <a:ext cx="3856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SP Gravity at 16.6     5.6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12880" y="2979720"/>
              <a:ext cx="2064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77480" y="2979720"/>
              <a:ext cx="18680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0.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00" y="353268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Flash point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2880" y="353268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9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77480" y="353268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6200" y="393480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Colour, SAYBO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12880" y="393480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1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77480" y="393480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  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00" y="433692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Sulfur %W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2880" y="433692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126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77480" y="433692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0.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00" y="473904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Aromatics by vol %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12880" y="473904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3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77480" y="473904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200" y="514080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alphatics by vol %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2880" y="514080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8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77480" y="514080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00" y="5542920"/>
              <a:ext cx="3856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Viscosity Kinematics Cst (40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12880" y="5542920"/>
              <a:ext cx="2064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7480" y="5542920"/>
              <a:ext cx="18680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33520" y="1371600"/>
              <a:ext cx="3901680" cy="401760"/>
              <a:chOff x="533520" y="1371600"/>
              <a:chExt cx="3901680" cy="401760"/>
            </a:xfrm>
          </p:grpSpPr>
          <p:sp>
            <p:nvSpPr>
              <p:cNvPr id="191" name=""/>
              <p:cNvSpPr/>
              <p:nvPr/>
            </p:nvSpPr>
            <p:spPr>
              <a:xfrm>
                <a:off x="556200" y="1371600"/>
                <a:ext cx="38563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G Times (WN)"/>
                  </a:rPr>
                  <a:t>Proper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3520" y="1371600"/>
                <a:ext cx="390168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435560" y="1371600"/>
              <a:ext cx="2109240" cy="401760"/>
              <a:chOff x="4435560" y="1371600"/>
              <a:chExt cx="2109240" cy="401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457520" y="1371600"/>
                <a:ext cx="206424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G Times (WN)"/>
                  </a:rPr>
                  <a:t>Test meth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35560" y="1371600"/>
                <a:ext cx="210924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545160" y="1371600"/>
              <a:ext cx="1912320" cy="401760"/>
              <a:chOff x="6545160" y="1371600"/>
              <a:chExt cx="1912320" cy="401760"/>
            </a:xfrm>
          </p:grpSpPr>
          <p:sp>
            <p:nvSpPr>
              <p:cNvPr id="197" name=""/>
              <p:cNvSpPr/>
              <p:nvPr/>
            </p:nvSpPr>
            <p:spPr>
              <a:xfrm>
                <a:off x="6567120" y="1371600"/>
                <a:ext cx="186768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G Times (WN)"/>
                  </a:rPr>
                  <a:t>HS-2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45160" y="1371600"/>
                <a:ext cx="191232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223-B85A-442B-BCBC-D9797CD8C1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7:10:41Z</dcterms:created>
  <dc:creator>jami</dc:creator>
  <dc:description/>
  <dc:language>en-US</dc:language>
  <cp:lastModifiedBy>陳政任</cp:lastModifiedBy>
  <dcterms:modified xsi:type="dcterms:W3CDTF">2002-06-07T10:03:25Z</dcterms:modified>
  <cp:revision>72</cp:revision>
  <dc:subject/>
  <dc:title>PowerPoint 簡報</dc:title>
</cp:coreProperties>
</file>