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5.png" ContentType="image/png"/>
  <Override PartName="/ppt/media/image9.png" ContentType="image/png"/>
  <Override PartName="/ppt/media/image17.wmf" ContentType="image/x-wmf"/>
  <Override PartName="/ppt/media/image1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14.jpeg" ContentType="image/jpeg"/>
  <Override PartName="/ppt/media/image16.wmf" ContentType="image/x-wmf"/>
  <Override PartName="/ppt/media/image8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624638" cy="98107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761DE-4CBC-4CD4-9C8B-9C95EFBED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6680" y="22093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066680" y="408024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E35EB-83B0-4FD6-97AE-EC278F3F9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68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680" y="22093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049360" y="22093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66680" y="40802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049360" y="40802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0D655-A35D-4ED7-B19B-69746D2B5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06668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066680" y="22093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694680" y="22093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322320" y="22093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066680" y="40802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694680" y="40802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322320" y="40802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A7CAF-16C7-4B32-9416-6095D7945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066680" y="22093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DEFC6-EC2F-4DF7-B636-09E5CCAD6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6680" y="22093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C820C-7AE7-47B3-B136-3694D108B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6668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66680" y="22093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49360" y="22093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02C02-2F33-4D56-AC75-E0248F1E6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65E56-E0B9-4646-A26D-CB39AEE1B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066680" y="914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B3490-7B36-4A7B-B5D2-473DA64C9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2093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2093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066680" y="40802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B945F-6E60-4880-97CA-53712D302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2093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2093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049360" y="40802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3486B-40B3-4AB6-80ED-C18B462A4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2093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49360" y="22093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66680" y="408024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507A4-3AF5-421C-97DC-125634DEA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oleObject" Target="../embeddings/oleObject1.bin"/><Relationship Id="rId11" Type="http://schemas.openxmlformats.org/officeDocument/2006/relationships/image" Target="../media/image7.png"/><Relationship Id="rId12" Type="http://schemas.openxmlformats.org/officeDocument/2006/relationships/oleObject" Target="../embeddings/oleObject2.bin"/><Relationship Id="rId13" Type="http://schemas.openxmlformats.org/officeDocument/2006/relationships/image" Target="../media/image8.png"/><Relationship Id="rId14" Type="http://schemas.openxmlformats.org/officeDocument/2006/relationships/slideLayout" Target="../slideLayouts/slideLayout1.xml"/><Relationship Id="rId15" Type="http://schemas.openxmlformats.org/officeDocument/2006/relationships/slideLayout" Target="../slideLayouts/slideLayout2.xml"/><Relationship Id="rId16" Type="http://schemas.openxmlformats.org/officeDocument/2006/relationships/slideLayout" Target="../slideLayouts/slideLayout3.xml"/><Relationship Id="rId17" Type="http://schemas.openxmlformats.org/officeDocument/2006/relationships/slideLayout" Target="../slideLayouts/slideLayout4.xml"/><Relationship Id="rId18" Type="http://schemas.openxmlformats.org/officeDocument/2006/relationships/slideLayout" Target="../slideLayouts/slideLayout5.xml"/><Relationship Id="rId19" Type="http://schemas.openxmlformats.org/officeDocument/2006/relationships/slideLayout" Target="../slideLayouts/slideLayout6.xml"/><Relationship Id="rId20" Type="http://schemas.openxmlformats.org/officeDocument/2006/relationships/slideLayout" Target="../slideLayouts/slideLayout7.xml"/><Relationship Id="rId21" Type="http://schemas.openxmlformats.org/officeDocument/2006/relationships/slideLayout" Target="../slideLayouts/slideLayout8.xml"/><Relationship Id="rId22" Type="http://schemas.openxmlformats.org/officeDocument/2006/relationships/slideLayout" Target="../slideLayouts/slideLayout9.xml"/><Relationship Id="rId23" Type="http://schemas.openxmlformats.org/officeDocument/2006/relationships/slideLayout" Target="../slideLayouts/slideLayout10.xml"/><Relationship Id="rId24" Type="http://schemas.openxmlformats.org/officeDocument/2006/relationships/slideLayout" Target="../slideLayouts/slideLayout11.xml"/><Relationship Id="rId2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680" y="22093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639000" indent="-24552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982800" indent="-19656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375920" indent="-19656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1769040" indent="-19656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1769040" indent="-19656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1769040" indent="-19656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E00F3-DB5D-4795-BD4A-521B7F5735DD}" type="slidenum">
              <a:rPr b="0" lang="zh-TW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295280" y="914400"/>
            <a:ext cx="6629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019920"/>
            <a:ext cx="83059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705000" y="6095880"/>
            <a:ext cx="534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000" spc="-1" strike="noStrike">
                <a:solidFill>
                  <a:srgbClr val="3399ff"/>
                </a:solidFill>
                <a:latin typeface="華康粗黑體"/>
                <a:ea typeface="華康粗黑體"/>
              </a:rPr>
              <a:t>工業技術研究院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791760" y="6248520"/>
            <a:ext cx="7930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800" spc="-1" strike="noStrike">
                <a:solidFill>
                  <a:srgbClr val="3399ff"/>
                </a:solidFill>
                <a:latin typeface="華康中黑體"/>
                <a:ea typeface="華康中黑體"/>
              </a:rPr>
              <a:t>環境與安全衛生技術發展中心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6580800" y="6370560"/>
            <a:ext cx="2075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99ff"/>
                </a:solidFill>
                <a:latin typeface="Bookman Old Style"/>
              </a:rPr>
              <a:t>Industrial Technology Research Institute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6527880" y="6508800"/>
            <a:ext cx="2311200" cy="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3399ff"/>
                </a:solidFill>
                <a:latin typeface="Times New Roman"/>
              </a:rPr>
              <a:t>Center for Environmental Safety &amp; Health Technology Development</a:t>
            </a:r>
            <a:endParaRPr b="0" lang="en-US" sz="6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11" name=""/>
          <p:cNvGraphicFramePr/>
          <p:nvPr/>
        </p:nvGraphicFramePr>
        <p:xfrm>
          <a:off x="6019920" y="6095880"/>
          <a:ext cx="476280" cy="447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2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6019920" y="6095880"/>
                    <a:ext cx="476280" cy="44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" name=""/>
          <p:cNvGraphicFramePr/>
          <p:nvPr/>
        </p:nvGraphicFramePr>
        <p:xfrm>
          <a:off x="457200" y="6105600"/>
          <a:ext cx="743040" cy="75240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4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457200" y="6105600"/>
                    <a:ext cx="743040" cy="75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4"/>
    <p:sldLayoutId id="2147483650" r:id="rId15"/>
    <p:sldLayoutId id="2147483651" r:id="rId16"/>
    <p:sldLayoutId id="2147483652" r:id="rId17"/>
    <p:sldLayoutId id="2147483653" r:id="rId18"/>
    <p:sldLayoutId id="2147483654" r:id="rId19"/>
    <p:sldLayoutId id="2147483655" r:id="rId20"/>
    <p:sldLayoutId id="2147483656" r:id="rId21"/>
    <p:sldLayoutId id="2147483657" r:id="rId22"/>
    <p:sldLayoutId id="2147483658" r:id="rId23"/>
    <p:sldLayoutId id="2147483659" r:id="rId24"/>
    <p:sldLayoutId id="2147483660" r:id="rId2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7.wmf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990720"/>
            <a:ext cx="9144000" cy="33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北區毒災應變諮詢中心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運作機制介紹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14400" y="4038480"/>
            <a:ext cx="7315200" cy="14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eaeaea"/>
                </a:solidFill>
                <a:latin typeface="標楷體"/>
                <a:ea typeface="標楷體"/>
              </a:rPr>
              <a:t>    </a:t>
            </a:r>
            <a:r>
              <a:rPr b="1" lang="zh-TW" sz="4000" spc="-1" strike="noStrike">
                <a:solidFill>
                  <a:srgbClr val="ff9933"/>
                </a:solidFill>
                <a:latin typeface="Arial Narrow"/>
                <a:ea typeface="華康細圓體"/>
              </a:rPr>
              <a:t>報告者：工研院  陳 范 倫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9933"/>
                </a:solidFill>
                <a:latin typeface="Arial Narrow"/>
                <a:ea typeface="華康細圓體"/>
              </a:rPr>
              <a:t>中華民國 九十一 年 六 月 十二 日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0"/>
            <a:ext cx="6934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00"/>
                </a:solidFill>
                <a:latin typeface="Times New Roman"/>
                <a:ea typeface="華康細圓體"/>
              </a:rPr>
              <a:t>災害發生時的功能與角色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33520" y="1066680"/>
            <a:ext cx="8229600" cy="53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 algn="just">
              <a:lnSpc>
                <a:spcPct val="75000"/>
              </a:lnSpc>
              <a:spcBef>
                <a:spcPts val="1500"/>
              </a:spcBef>
              <a:spcAft>
                <a:spcPts val="300"/>
              </a:spcAft>
              <a:buClr>
                <a:srgbClr val="ff33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粗圓體"/>
              </a:rPr>
              <a:t>接獲通報後，立即傳送相關應變參考資料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粗圓體"/>
              </a:rPr>
              <a:t>(Level 1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80880" indent="-380880" algn="just">
              <a:lnSpc>
                <a:spcPct val="75000"/>
              </a:lnSpc>
              <a:spcBef>
                <a:spcPts val="1500"/>
              </a:spcBef>
              <a:spcAft>
                <a:spcPts val="300"/>
              </a:spcAft>
              <a:buClr>
                <a:srgbClr val="ff33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粗圓體"/>
              </a:rPr>
              <a:t>協助緊急諮詢，提供安全有效的應變處理建議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粗圓體"/>
              </a:rPr>
              <a:t>(Level 1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80880" indent="-380880" algn="just">
              <a:lnSpc>
                <a:spcPct val="75000"/>
              </a:lnSpc>
              <a:spcBef>
                <a:spcPts val="15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eaeaea"/>
                </a:solidFill>
                <a:latin typeface="Arial Alternative"/>
                <a:ea typeface="Arial Alternative"/>
              </a:rPr>
              <a:t>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粗圓體"/>
              </a:rPr>
              <a:t>  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粗圓體"/>
              </a:rPr>
              <a:t>協助擴散模擬分析，建議安全管制疏散範圍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粗圓體"/>
              </a:rPr>
              <a:t>(Level 1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80880" indent="-380880" algn="just">
              <a:lnSpc>
                <a:spcPct val="75000"/>
              </a:lnSpc>
              <a:spcBef>
                <a:spcPts val="1500"/>
              </a:spcBef>
              <a:spcAft>
                <a:spcPts val="300"/>
              </a:spcAft>
              <a:buClr>
                <a:srgbClr val="ff33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粗圓體"/>
              </a:rPr>
              <a:t>協調毒災聯防小組，提供應變裝備器材與特殊工具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粗圓體"/>
              </a:rPr>
              <a:t>(Level 1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80880" indent="-380880" algn="just">
              <a:lnSpc>
                <a:spcPct val="75000"/>
              </a:lnSpc>
              <a:spcBef>
                <a:spcPts val="1500"/>
              </a:spcBef>
              <a:spcAft>
                <a:spcPts val="300"/>
              </a:spcAft>
              <a:buClr>
                <a:srgbClr val="ff33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粗圓體"/>
              </a:rPr>
              <a:t>兩小時內到達災區現場協助應變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粗圓體"/>
              </a:rPr>
              <a:t>(Level 2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80880" indent="-380880" algn="just">
              <a:lnSpc>
                <a:spcPct val="75000"/>
              </a:lnSpc>
              <a:spcBef>
                <a:spcPts val="1500"/>
              </a:spcBef>
              <a:spcAft>
                <a:spcPts val="300"/>
              </a:spcAft>
              <a:buClr>
                <a:srgbClr val="ff33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粗圓體"/>
              </a:rPr>
              <a:t>啟動轄區諮詢專家學者至現場協助應變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粗圓體"/>
              </a:rPr>
              <a:t>(Level 2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80880" indent="-380880" algn="just">
              <a:lnSpc>
                <a:spcPct val="75000"/>
              </a:lnSpc>
              <a:spcBef>
                <a:spcPts val="15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eaeaea"/>
                </a:solidFill>
                <a:latin typeface="Arial Alternative"/>
                <a:ea typeface="Arial Alternative"/>
              </a:rPr>
              <a:t></a:t>
            </a:r>
            <a:r>
              <a:rPr b="1" lang="zh-TW" sz="24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  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粗圓體"/>
              </a:rPr>
              <a:t>災害現場毒化物空氣污染濃度分析鑑認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粗圓體"/>
              </a:rPr>
              <a:t>(Level 3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80880" indent="-380880" algn="just">
              <a:lnSpc>
                <a:spcPct val="75000"/>
              </a:lnSpc>
              <a:spcBef>
                <a:spcPts val="15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eaeaea"/>
                </a:solidFill>
                <a:latin typeface="Arial Alternative"/>
                <a:ea typeface="Arial Alternative"/>
              </a:rPr>
              <a:t></a:t>
            </a:r>
            <a:r>
              <a:rPr b="1" lang="zh-TW" sz="24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  </a:t>
            </a:r>
            <a:r>
              <a:rPr b="1" lang="zh-TW" sz="2400" spc="-1" strike="noStrike">
                <a:solidFill>
                  <a:srgbClr val="ff9933"/>
                </a:solidFill>
                <a:latin typeface="Arial Narrow"/>
                <a:ea typeface="華康粗圓體"/>
              </a:rPr>
              <a:t>災害現場毒化物土壤及水污染分析鑑認</a:t>
            </a:r>
            <a:r>
              <a:rPr b="1" lang="zh-TW" sz="2400" spc="-1" strike="noStrike">
                <a:solidFill>
                  <a:srgbClr val="ff9933"/>
                </a:solidFill>
                <a:latin typeface="Arial Narrow"/>
                <a:ea typeface="華康粗圓體"/>
              </a:rPr>
              <a:t>(Level 3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80880" indent="-380880" algn="just">
              <a:lnSpc>
                <a:spcPct val="75000"/>
              </a:lnSpc>
              <a:spcBef>
                <a:spcPts val="1500"/>
              </a:spcBef>
              <a:spcAft>
                <a:spcPts val="300"/>
              </a:spcAft>
              <a:buClr>
                <a:srgbClr val="ff33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9933"/>
                </a:solidFill>
                <a:latin typeface="Arial Narrow"/>
                <a:ea typeface="華康粗圓體"/>
              </a:rPr>
              <a:t>善後處理技術諮詢</a:t>
            </a:r>
            <a:r>
              <a:rPr b="1" lang="zh-TW" sz="2400" spc="-1" strike="noStrike">
                <a:solidFill>
                  <a:srgbClr val="ff9933"/>
                </a:solidFill>
                <a:latin typeface="Arial Narrow"/>
                <a:ea typeface="華康粗圓體"/>
              </a:rPr>
              <a:t>(Level 2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80880" indent="-380880" algn="just">
              <a:lnSpc>
                <a:spcPct val="75000"/>
              </a:lnSpc>
              <a:spcBef>
                <a:spcPts val="1500"/>
              </a:spcBef>
              <a:spcAft>
                <a:spcPts val="300"/>
              </a:spcAft>
              <a:buClr>
                <a:srgbClr val="ff33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9933"/>
                </a:solidFill>
                <a:latin typeface="Arial Narrow"/>
                <a:ea typeface="華康粗圓體"/>
              </a:rPr>
              <a:t>災後事故調查及案例分析</a:t>
            </a:r>
            <a:r>
              <a:rPr b="1" lang="zh-TW" sz="2400" spc="-1" strike="noStrike">
                <a:solidFill>
                  <a:srgbClr val="ff9933"/>
                </a:solidFill>
                <a:latin typeface="Arial Narrow"/>
                <a:ea typeface="華康粗圓體"/>
              </a:rPr>
              <a:t>(Level 2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80880" indent="-380880" algn="just">
              <a:lnSpc>
                <a:spcPct val="75000"/>
              </a:lnSpc>
              <a:spcBef>
                <a:spcPts val="15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粗圓體"/>
              </a:rPr>
              <a:t>    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066680" y="0"/>
            <a:ext cx="6934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00"/>
                </a:solidFill>
                <a:latin typeface="Times New Roman"/>
                <a:ea typeface="華康細圓體"/>
              </a:rPr>
              <a:t>中心平時的功能與角色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62120" y="1219320"/>
            <a:ext cx="8229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 algn="just">
              <a:lnSpc>
                <a:spcPct val="75000"/>
              </a:lnSpc>
              <a:spcBef>
                <a:spcPts val="1500"/>
              </a:spcBef>
              <a:spcAft>
                <a:spcPts val="300"/>
              </a:spcAft>
              <a:buClr>
                <a:srgbClr val="ff33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粗圓體"/>
              </a:rPr>
              <a:t>協助政府單位、民間業者毒化物一般諮詢服務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80880" indent="-380880" algn="just">
              <a:lnSpc>
                <a:spcPct val="75000"/>
              </a:lnSpc>
              <a:spcBef>
                <a:spcPts val="1500"/>
              </a:spcBef>
              <a:spcAft>
                <a:spcPts val="300"/>
              </a:spcAft>
              <a:buClr>
                <a:srgbClr val="ff33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粗圓體"/>
              </a:rPr>
              <a:t>更新毒化物相關應變資料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粗圓體"/>
              </a:rPr>
              <a:t>(MSDS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粗圓體"/>
              </a:rPr>
              <a:t>、防救手冊、應變卡等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粗圓體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80880" indent="-380880" algn="just">
              <a:lnSpc>
                <a:spcPct val="75000"/>
              </a:lnSpc>
              <a:spcBef>
                <a:spcPts val="1500"/>
              </a:spcBef>
              <a:spcAft>
                <a:spcPts val="300"/>
              </a:spcAft>
              <a:buClr>
                <a:srgbClr val="ff33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粗圓體"/>
              </a:rPr>
              <a:t>毒災應變處理前瞻技術研發工作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80880" indent="-380880" algn="just">
              <a:lnSpc>
                <a:spcPct val="75000"/>
              </a:lnSpc>
              <a:spcBef>
                <a:spcPts val="1500"/>
              </a:spcBef>
              <a:spcAft>
                <a:spcPts val="300"/>
              </a:spcAft>
              <a:buClr>
                <a:srgbClr val="ff33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粗圓體"/>
              </a:rPr>
              <a:t>建立及主導毒災聯防小組及應變隊之運作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80880" indent="-380880" algn="just">
              <a:lnSpc>
                <a:spcPct val="75000"/>
              </a:lnSpc>
              <a:spcBef>
                <a:spcPts val="1500"/>
              </a:spcBef>
              <a:spcAft>
                <a:spcPts val="300"/>
              </a:spcAft>
              <a:buClr>
                <a:srgbClr val="ff33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粗圓體"/>
              </a:rPr>
              <a:t>毒性化學物質運作廠資料建置與更新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80880" indent="-380880" algn="just">
              <a:lnSpc>
                <a:spcPct val="75000"/>
              </a:lnSpc>
              <a:spcBef>
                <a:spcPts val="1500"/>
              </a:spcBef>
              <a:spcAft>
                <a:spcPts val="300"/>
              </a:spcAft>
              <a:buClr>
                <a:srgbClr val="ff33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粗圓體"/>
              </a:rPr>
              <a:t>應變器材資料庫的收集與彙整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80880" indent="-380880" algn="just">
              <a:lnSpc>
                <a:spcPct val="75000"/>
              </a:lnSpc>
              <a:spcBef>
                <a:spcPts val="1500"/>
              </a:spcBef>
              <a:spcAft>
                <a:spcPts val="300"/>
              </a:spcAft>
              <a:buClr>
                <a:srgbClr val="ff33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粗圓體"/>
              </a:rPr>
              <a:t>Level 1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粗圓體"/>
              </a:rPr>
              <a:t>、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粗圓體"/>
              </a:rPr>
              <a:t>2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粗圓體"/>
              </a:rPr>
              <a:t>、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粗圓體"/>
              </a:rPr>
              <a:t>3 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粗圓體"/>
              </a:rPr>
              <a:t>毒災應變訓練教材的撰寫與彙整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066680" y="0"/>
            <a:ext cx="6934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ff00"/>
                </a:solidFill>
                <a:latin typeface="Times New Roman"/>
                <a:ea typeface="華康細圓體"/>
              </a:rPr>
              <a:t>環保署與縣市環保局配合事項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62120" y="1219320"/>
            <a:ext cx="8229600" cy="29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 algn="just">
              <a:lnSpc>
                <a:spcPct val="75000"/>
              </a:lnSpc>
              <a:spcBef>
                <a:spcPts val="1500"/>
              </a:spcBef>
              <a:spcAft>
                <a:spcPts val="300"/>
              </a:spcAft>
              <a:buClr>
                <a:srgbClr val="ff33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80880" indent="-380880" algn="just">
              <a:lnSpc>
                <a:spcPct val="75000"/>
              </a:lnSpc>
              <a:spcBef>
                <a:spcPts val="1500"/>
              </a:spcBef>
              <a:spcAft>
                <a:spcPts val="300"/>
              </a:spcAft>
              <a:buClr>
                <a:srgbClr val="ff33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粗圓體"/>
              </a:rPr>
              <a:t>毒災聯防小組重新納編與落實工作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粗圓體"/>
              </a:rPr>
              <a:t>(7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粗圓體"/>
              </a:rPr>
              <a:t>月底前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粗圓體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80880" indent="-380880" algn="just">
              <a:lnSpc>
                <a:spcPct val="75000"/>
              </a:lnSpc>
              <a:spcBef>
                <a:spcPts val="1500"/>
              </a:spcBef>
              <a:spcAft>
                <a:spcPts val="300"/>
              </a:spcAft>
              <a:buClr>
                <a:srgbClr val="ff33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粗圓體"/>
              </a:rPr>
              <a:t>毒化物運作工廠無預警測試工作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粗圓體"/>
              </a:rPr>
              <a:t>(8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粗圓體"/>
              </a:rPr>
              <a:t>月底前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粗圓體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80880" indent="-380880" algn="just">
              <a:lnSpc>
                <a:spcPct val="75000"/>
              </a:lnSpc>
              <a:spcBef>
                <a:spcPts val="1500"/>
              </a:spcBef>
              <a:spcAft>
                <a:spcPts val="300"/>
              </a:spcAft>
              <a:buClr>
                <a:srgbClr val="ff33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粗圓體"/>
              </a:rPr>
              <a:t>規劃建置毒化物運作廠場防救基本資料，包括應變資材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80880" indent="-380880" algn="just">
              <a:lnSpc>
                <a:spcPct val="75000"/>
              </a:lnSpc>
              <a:spcBef>
                <a:spcPts val="15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粗圓體"/>
              </a:rPr>
              <a:t>      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粗圓體"/>
              </a:rPr>
              <a:t>及廠場配置圖等應變相關資料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粗圓體"/>
              </a:rPr>
              <a:t>(8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粗圓體"/>
              </a:rPr>
              <a:t>月中旬前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粗圓體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80880" indent="-380880" algn="just">
              <a:lnSpc>
                <a:spcPct val="75000"/>
              </a:lnSpc>
              <a:spcBef>
                <a:spcPts val="1500"/>
              </a:spcBef>
              <a:spcAft>
                <a:spcPts val="300"/>
              </a:spcAft>
              <a:buClr>
                <a:srgbClr val="ff33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粗圓體"/>
              </a:rPr>
              <a:t>災害事故調查彙整及案例分析工作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粗圓體"/>
              </a:rPr>
              <a:t>(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粗圓體"/>
              </a:rPr>
              <a:t>持續進行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粗圓體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9" name=""/>
          <p:cNvGraphicFramePr/>
          <p:nvPr/>
        </p:nvGraphicFramePr>
        <p:xfrm>
          <a:off x="1100160" y="1219320"/>
          <a:ext cx="2449440" cy="4572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00160" y="1219320"/>
                    <a:ext cx="244944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4457880" y="837720"/>
            <a:ext cx="4209840" cy="214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報  告  完  畢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敬  請  指  教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778280" y="3308400"/>
          <a:ext cx="3733920" cy="247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778280" y="3308400"/>
                    <a:ext cx="3733920" cy="24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災害類型</a:t>
            </a:r>
            <a:r>
              <a:rPr b="1" lang="zh-TW" sz="48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-</a:t>
            </a:r>
            <a:r>
              <a:rPr b="1" lang="zh-TW" sz="48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槽車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181160" y="1065240"/>
            <a:ext cx="6934320" cy="472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災害類型</a:t>
            </a:r>
            <a:r>
              <a:rPr b="1" lang="zh-TW" sz="48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-</a:t>
            </a:r>
            <a:r>
              <a:rPr b="1" lang="zh-TW" sz="48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工廠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1219320" y="1090440"/>
            <a:ext cx="6858000" cy="467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災害類型</a:t>
            </a:r>
            <a:r>
              <a:rPr b="1" lang="zh-TW" sz="48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-</a:t>
            </a:r>
            <a:r>
              <a:rPr b="1" lang="zh-TW" sz="48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實驗室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1257480" y="1116000"/>
            <a:ext cx="6781680" cy="462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1295280" y="1143000"/>
            <a:ext cx="6629400" cy="451944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災害類型</a:t>
            </a:r>
            <a:r>
              <a:rPr b="1" lang="zh-TW" sz="48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-</a:t>
            </a:r>
            <a:r>
              <a:rPr b="1" lang="zh-TW" sz="48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恐怖攻擊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609480" y="0"/>
            <a:ext cx="8077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00"/>
                </a:solidFill>
                <a:latin typeface="Arial Narrow"/>
                <a:ea typeface="華康粗圓體"/>
              </a:rPr>
              <a:t>毒  災  特  性</a:t>
            </a:r>
            <a:r>
              <a:rPr b="0" lang="zh-TW" sz="44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 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143000" y="990720"/>
            <a:ext cx="8001000" cy="559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00"/>
                </a:solidFill>
                <a:latin typeface="Arial Narrow"/>
                <a:ea typeface="華康粗圓體"/>
              </a:rPr>
              <a:t>可能伴隨重大火災及爆炸災況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00"/>
                </a:solidFill>
                <a:latin typeface="Arial Narrow"/>
                <a:ea typeface="華康粗圓體"/>
              </a:rPr>
              <a:t>可能有大量傷患就醫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00"/>
                </a:solidFill>
                <a:latin typeface="Arial Narrow"/>
                <a:ea typeface="華康粗圓體"/>
              </a:rPr>
              <a:t>需要大範圍封鎖與管制及疏散民眾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buClr>
                <a:srgbClr val="ffcc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cc00"/>
                </a:solidFill>
                <a:latin typeface="Arial Narrow"/>
                <a:ea typeface="華康粗圓體"/>
              </a:rPr>
              <a:t>可能需要成立災民收容中心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buClr>
                <a:srgbClr val="ffcc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cc00"/>
                </a:solidFill>
                <a:latin typeface="Arial Narrow"/>
                <a:ea typeface="華康粗圓體"/>
              </a:rPr>
              <a:t>需要確認濃度範圍</a:t>
            </a:r>
            <a:r>
              <a:rPr b="1" lang="zh-TW" sz="2800" spc="-1" strike="noStrike">
                <a:solidFill>
                  <a:srgbClr val="ffcc00"/>
                </a:solidFill>
                <a:latin typeface="Arial Narrow"/>
                <a:ea typeface="華康粗圓體"/>
              </a:rPr>
              <a:t>(</a:t>
            </a:r>
            <a:r>
              <a:rPr b="1" lang="zh-TW" sz="2800" spc="-1" strike="noStrike">
                <a:solidFill>
                  <a:srgbClr val="ffcc00"/>
                </a:solidFill>
                <a:latin typeface="Arial Narrow"/>
                <a:ea typeface="華康粗圓體"/>
              </a:rPr>
              <a:t>偵測</a:t>
            </a:r>
            <a:r>
              <a:rPr b="1" lang="zh-TW" sz="2800" spc="-1" strike="noStrike">
                <a:solidFill>
                  <a:srgbClr val="ffcc00"/>
                </a:solidFill>
                <a:latin typeface="Arial Narrow"/>
                <a:ea typeface="華康粗圓體"/>
              </a:rPr>
              <a:t>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buClr>
                <a:srgbClr val="ffcc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cc00"/>
                </a:solidFill>
                <a:latin typeface="Arial Narrow"/>
                <a:ea typeface="華康粗圓體"/>
              </a:rPr>
              <a:t>可能伴隨大量污染</a:t>
            </a:r>
            <a:r>
              <a:rPr b="1" lang="zh-TW" sz="2800" spc="-1" strike="noStrike">
                <a:solidFill>
                  <a:srgbClr val="ffcc00"/>
                </a:solidFill>
                <a:latin typeface="Arial Narrow"/>
                <a:ea typeface="華康粗圓體"/>
              </a:rPr>
              <a:t>(</a:t>
            </a:r>
            <a:r>
              <a:rPr b="1" lang="zh-TW" sz="2800" spc="-1" strike="noStrike">
                <a:solidFill>
                  <a:srgbClr val="ffcc00"/>
                </a:solidFill>
                <a:latin typeface="Arial Narrow"/>
                <a:ea typeface="華康粗圓體"/>
              </a:rPr>
              <a:t>空氣、水、土壤、人員</a:t>
            </a:r>
            <a:r>
              <a:rPr b="1" lang="zh-TW" sz="2800" spc="-1" strike="noStrike">
                <a:solidFill>
                  <a:srgbClr val="ffcc00"/>
                </a:solidFill>
                <a:latin typeface="Arial Narrow"/>
                <a:ea typeface="華康粗圓體"/>
              </a:rPr>
              <a:t>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buClr>
                <a:srgbClr val="ff99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9933"/>
                </a:solidFill>
                <a:latin typeface="Arial Narrow"/>
                <a:ea typeface="華康粗圓體"/>
              </a:rPr>
              <a:t>民眾會特別焦慮，需要長時間追蹤輔導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buClr>
                <a:srgbClr val="ff99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9933"/>
                </a:solidFill>
                <a:latin typeface="Arial Narrow"/>
                <a:ea typeface="華康粗圓體"/>
              </a:rPr>
              <a:t>事後的廢棄物清除處理困難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buClr>
                <a:srgbClr val="ff99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9933"/>
                </a:solidFill>
                <a:latin typeface="Arial Narrow"/>
                <a:ea typeface="華康粗圓體"/>
              </a:rPr>
              <a:t>後續社會成本影響大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99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066680" y="0"/>
            <a:ext cx="6934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00"/>
                </a:solidFill>
                <a:latin typeface="Times New Roman"/>
                <a:ea typeface="華康細圓體"/>
              </a:rPr>
              <a:t>毒災應變諮詢中心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1905120" y="923760"/>
          <a:ext cx="3835440" cy="5008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05120" y="923760"/>
                    <a:ext cx="3835440" cy="500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"/>
          <p:cNvSpPr/>
          <p:nvPr/>
        </p:nvSpPr>
        <p:spPr>
          <a:xfrm>
            <a:off x="5334120" y="1228680"/>
            <a:ext cx="1066680" cy="447840"/>
          </a:xfrm>
          <a:prstGeom prst="line">
            <a:avLst/>
          </a:prstGeom>
          <a:ln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00800" y="1447920"/>
            <a:ext cx="12952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00"/>
                </a:solidFill>
                <a:latin typeface="全真標準楷書"/>
                <a:ea typeface="華康細圓體"/>
              </a:rPr>
              <a:t>基隆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5105520" y="2743200"/>
            <a:ext cx="1295280" cy="114480"/>
          </a:xfrm>
          <a:prstGeom prst="line">
            <a:avLst/>
          </a:prstGeom>
          <a:ln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400800" y="2514600"/>
            <a:ext cx="1523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00"/>
                </a:solidFill>
                <a:latin typeface="全真標準楷書"/>
                <a:ea typeface="華康細圓體"/>
              </a:rPr>
              <a:t>花蓮縣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209680" y="2066760"/>
            <a:ext cx="1905120" cy="828720"/>
          </a:xfrm>
          <a:prstGeom prst="line">
            <a:avLst/>
          </a:prstGeom>
          <a:ln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066680" y="26668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00"/>
                </a:solidFill>
                <a:latin typeface="Times New Roman"/>
                <a:ea typeface="華康細圓體"/>
              </a:rPr>
              <a:t>苗栗縣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2438280" y="1609560"/>
            <a:ext cx="1981440" cy="676440"/>
          </a:xfrm>
          <a:prstGeom prst="line">
            <a:avLst/>
          </a:prstGeom>
          <a:ln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2209680"/>
            <a:ext cx="14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00"/>
                </a:solidFill>
                <a:latin typeface="Times New Roman"/>
                <a:ea typeface="華康細圓體"/>
              </a:rPr>
              <a:t>新竹縣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3657600" y="1219320"/>
            <a:ext cx="1447920" cy="0"/>
          </a:xfrm>
          <a:prstGeom prst="line">
            <a:avLst/>
          </a:prstGeom>
          <a:ln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486400" y="1981080"/>
            <a:ext cx="838080" cy="228600"/>
          </a:xfrm>
          <a:prstGeom prst="line">
            <a:avLst/>
          </a:prstGeom>
          <a:ln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400800" y="1981080"/>
            <a:ext cx="129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00"/>
                </a:solidFill>
                <a:latin typeface="Times New Roman"/>
                <a:ea typeface="華康細圓體"/>
              </a:rPr>
              <a:t>宜蘭縣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2133360" y="1371600"/>
            <a:ext cx="2514600" cy="228600"/>
          </a:xfrm>
          <a:prstGeom prst="line">
            <a:avLst/>
          </a:prstGeom>
          <a:ln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066680" y="13716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00"/>
                </a:solidFill>
                <a:latin typeface="Times New Roman"/>
                <a:ea typeface="華康細圓體"/>
              </a:rPr>
              <a:t>桃園縣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286000" y="9907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00"/>
                </a:solidFill>
                <a:latin typeface="Times New Roman"/>
                <a:ea typeface="華康細圓體"/>
              </a:rPr>
              <a:t>台北縣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17524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eaeaea"/>
                </a:solidFill>
                <a:latin typeface="Times New Roman"/>
                <a:ea typeface="華康細圓體"/>
              </a:rPr>
              <a:t>金門縣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 flipV="1">
            <a:off x="2133720" y="1971720"/>
            <a:ext cx="380880" cy="85680"/>
          </a:xfrm>
          <a:prstGeom prst="line">
            <a:avLst/>
          </a:prstGeom>
          <a:ln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621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eaeaea"/>
                </a:solidFill>
                <a:latin typeface="Times New Roman"/>
                <a:ea typeface="華康細圓體"/>
              </a:rPr>
              <a:t>台中縣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2133720" y="2514240"/>
            <a:ext cx="1904760" cy="676440"/>
          </a:xfrm>
          <a:prstGeom prst="line">
            <a:avLst/>
          </a:prstGeom>
          <a:ln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066680" y="34290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eaeaea"/>
                </a:solidFill>
                <a:latin typeface="Times New Roman"/>
                <a:ea typeface="華康細圓體"/>
              </a:rPr>
              <a:t>彰化縣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133720" y="2971440"/>
            <a:ext cx="1447560" cy="609480"/>
          </a:xfrm>
          <a:prstGeom prst="line">
            <a:avLst/>
          </a:prstGeom>
          <a:ln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257800" y="40384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eaeaea"/>
                </a:solidFill>
                <a:latin typeface="Times New Roman"/>
                <a:ea typeface="華康細圓體"/>
              </a:rPr>
              <a:t>嘉義縣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2133720" y="3428640"/>
            <a:ext cx="1143000" cy="609480"/>
          </a:xfrm>
          <a:prstGeom prst="line">
            <a:avLst/>
          </a:prstGeom>
          <a:ln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715000" y="32004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eaeaea"/>
                </a:solidFill>
                <a:latin typeface="Times New Roman"/>
                <a:ea typeface="華康細圓體"/>
              </a:rPr>
              <a:t>南投縣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066680" y="38862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eaeaea"/>
                </a:solidFill>
                <a:latin typeface="Times New Roman"/>
                <a:ea typeface="華康細圓體"/>
              </a:rPr>
              <a:t>雲林縣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4267080" y="3161880"/>
            <a:ext cx="1447920" cy="266760"/>
          </a:xfrm>
          <a:prstGeom prst="line">
            <a:avLst/>
          </a:prstGeom>
          <a:ln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H="1" flipV="1">
            <a:off x="3657240" y="3657600"/>
            <a:ext cx="1676520" cy="533520"/>
          </a:xfrm>
          <a:prstGeom prst="line">
            <a:avLst/>
          </a:prstGeom>
          <a:ln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952880" y="49528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ff00"/>
                </a:solidFill>
                <a:latin typeface="Times New Roman"/>
                <a:ea typeface="華康細圓體"/>
              </a:rPr>
              <a:t>台東縣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H="1" flipV="1">
            <a:off x="4648320" y="4495680"/>
            <a:ext cx="380880" cy="609840"/>
          </a:xfrm>
          <a:prstGeom prst="line">
            <a:avLst/>
          </a:prstGeom>
          <a:ln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362320" y="541008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ff00"/>
                </a:solidFill>
                <a:latin typeface="Times New Roman"/>
                <a:ea typeface="華康細圓體"/>
              </a:rPr>
              <a:t>屏東縣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3352320" y="5105520"/>
            <a:ext cx="685800" cy="457200"/>
          </a:xfrm>
          <a:prstGeom prst="line">
            <a:avLst/>
          </a:prstGeom>
          <a:ln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676520" y="48769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ff00"/>
                </a:solidFill>
                <a:latin typeface="Times New Roman"/>
                <a:ea typeface="華康細圓體"/>
              </a:rPr>
              <a:t>高雄縣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047760" y="4572000"/>
            <a:ext cx="685800" cy="533520"/>
          </a:xfrm>
          <a:prstGeom prst="line">
            <a:avLst/>
          </a:prstGeom>
          <a:ln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447920" y="43434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ff00"/>
                </a:solidFill>
                <a:latin typeface="Times New Roman"/>
                <a:ea typeface="華康細圓體"/>
              </a:rPr>
              <a:t>台南縣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2819160" y="4114800"/>
            <a:ext cx="685800" cy="533520"/>
          </a:xfrm>
          <a:prstGeom prst="line">
            <a:avLst/>
          </a:prstGeom>
          <a:ln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28600" y="43434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ff00"/>
                </a:solidFill>
                <a:latin typeface="Times New Roman"/>
                <a:ea typeface="華康細圓體"/>
              </a:rPr>
              <a:t>澎湖縣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1295280" y="3581280"/>
            <a:ext cx="990720" cy="990720"/>
          </a:xfrm>
          <a:prstGeom prst="line">
            <a:avLst/>
          </a:prstGeom>
          <a:ln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238880" y="4114800"/>
            <a:ext cx="38124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543800" y="40384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北區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238880" y="4572000"/>
            <a:ext cx="381240" cy="304920"/>
          </a:xfrm>
          <a:prstGeom prst="rect">
            <a:avLst/>
          </a:prstGeom>
          <a:solidFill>
            <a:srgbClr val="eaeaea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543800" y="44956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中區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238880" y="5029200"/>
            <a:ext cx="381240" cy="304920"/>
          </a:xfrm>
          <a:prstGeom prst="rect">
            <a:avLst/>
          </a:prstGeom>
          <a:solidFill>
            <a:srgbClr val="00ff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543800" y="49528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南區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914400" y="1100160"/>
            <a:ext cx="7848720" cy="470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(</a:t>
            </a:r>
            <a:r>
              <a:rPr b="1" lang="zh-TW" sz="26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一</a:t>
            </a:r>
            <a:r>
              <a:rPr b="1" lang="zh-TW" sz="26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)</a:t>
            </a:r>
            <a:r>
              <a:rPr b="1" lang="zh-TW" sz="26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對象：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  </a:t>
            </a:r>
            <a:r>
              <a:rPr b="1" lang="zh-TW" sz="26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1.</a:t>
            </a:r>
            <a:r>
              <a:rPr b="1" lang="zh-TW" sz="26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環保署與轄區縣市環保單位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eaeaea"/>
                </a:solidFill>
                <a:latin typeface="Arial Narrow"/>
                <a:ea typeface="華康細圓體"/>
              </a:rPr>
              <a:t>  </a:t>
            </a:r>
            <a:r>
              <a:rPr b="1" lang="zh-TW" sz="26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2.</a:t>
            </a:r>
            <a:r>
              <a:rPr b="1" lang="zh-TW" sz="26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其他相關政府單位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  </a:t>
            </a:r>
            <a:r>
              <a:rPr b="1" lang="zh-TW" sz="26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3.</a:t>
            </a:r>
            <a:r>
              <a:rPr b="1" lang="zh-TW" sz="26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轄區運作業者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(</a:t>
            </a:r>
            <a:r>
              <a:rPr b="1" lang="zh-TW" sz="26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二</a:t>
            </a:r>
            <a:r>
              <a:rPr b="1" lang="zh-TW" sz="26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)</a:t>
            </a:r>
            <a:r>
              <a:rPr b="1" lang="zh-TW" sz="26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緊急諮詢方式：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  </a:t>
            </a:r>
            <a:r>
              <a:rPr b="1" lang="zh-TW" sz="26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1.</a:t>
            </a:r>
            <a:r>
              <a:rPr b="1" lang="zh-TW" sz="26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上班時間</a:t>
            </a:r>
            <a:r>
              <a:rPr b="1" lang="zh-TW" sz="26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(8:00~17:30)</a:t>
            </a:r>
            <a:r>
              <a:rPr b="1" lang="zh-TW" sz="26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：專線</a:t>
            </a:r>
            <a:r>
              <a:rPr b="1" lang="zh-TW" sz="26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-</a:t>
            </a:r>
            <a:r>
              <a:rPr b="1" lang="zh-TW" sz="2600" spc="-1" strike="noStrike" u="sng">
                <a:solidFill>
                  <a:srgbClr val="ffcc00"/>
                </a:solidFill>
                <a:uFillTx/>
                <a:latin typeface="Arial Narrow"/>
                <a:ea typeface="華康細圓體"/>
              </a:rPr>
              <a:t>0800057119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eaeaea"/>
                </a:solidFill>
                <a:latin typeface="Arial Narrow"/>
                <a:ea typeface="華康細圓體"/>
              </a:rPr>
              <a:t>  </a:t>
            </a:r>
            <a:r>
              <a:rPr b="1" lang="zh-TW" sz="2600" spc="-1" strike="noStrike">
                <a:solidFill>
                  <a:srgbClr val="ff9933"/>
                </a:solidFill>
                <a:latin typeface="Arial Narrow"/>
                <a:ea typeface="華康細圓體"/>
              </a:rPr>
              <a:t>2.</a:t>
            </a:r>
            <a:r>
              <a:rPr b="1" lang="zh-TW" sz="2600" spc="-1" strike="noStrike">
                <a:solidFill>
                  <a:srgbClr val="ff9933"/>
                </a:solidFill>
                <a:latin typeface="Arial Narrow"/>
                <a:ea typeface="華康細圓體"/>
              </a:rPr>
              <a:t>下班時間與例假日：大哥大</a:t>
            </a:r>
            <a:r>
              <a:rPr b="1" lang="zh-TW" sz="2600" spc="-1" strike="noStrike">
                <a:solidFill>
                  <a:srgbClr val="ff9933"/>
                </a:solidFill>
                <a:latin typeface="Arial Narrow"/>
                <a:ea typeface="華康細圓體"/>
              </a:rPr>
              <a:t>-</a:t>
            </a:r>
            <a:r>
              <a:rPr b="1" lang="zh-TW" sz="2600" spc="-1" strike="noStrike" u="sng">
                <a:solidFill>
                  <a:srgbClr val="ff9933"/>
                </a:solidFill>
                <a:uFillTx/>
                <a:latin typeface="Arial Narrow"/>
                <a:ea typeface="華康細圓體"/>
              </a:rPr>
              <a:t>0952330005~8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ff9933"/>
                </a:solidFill>
                <a:latin typeface="Arial Narrow"/>
                <a:ea typeface="華康細圓體"/>
              </a:rPr>
              <a:t>(</a:t>
            </a:r>
            <a:r>
              <a:rPr b="1" lang="zh-TW" sz="2600" spc="-1" strike="noStrike">
                <a:solidFill>
                  <a:srgbClr val="ff9933"/>
                </a:solidFill>
                <a:latin typeface="Arial Narrow"/>
                <a:ea typeface="華康細圓體"/>
              </a:rPr>
              <a:t>三</a:t>
            </a:r>
            <a:r>
              <a:rPr b="1" lang="zh-TW" sz="2600" spc="-1" strike="noStrike">
                <a:solidFill>
                  <a:srgbClr val="ff9933"/>
                </a:solidFill>
                <a:latin typeface="Arial Narrow"/>
                <a:ea typeface="華康細圓體"/>
              </a:rPr>
              <a:t>)</a:t>
            </a:r>
            <a:r>
              <a:rPr b="1" lang="zh-TW" sz="2600" spc="-1" strike="noStrike">
                <a:solidFill>
                  <a:srgbClr val="ff9933"/>
                </a:solidFill>
                <a:latin typeface="Arial Narrow"/>
                <a:ea typeface="華康細圓體"/>
              </a:rPr>
              <a:t>非緊急諮詢方式：</a:t>
            </a:r>
            <a:r>
              <a:rPr b="1" lang="zh-TW" sz="2600" spc="-1" strike="noStrike" u="sng">
                <a:solidFill>
                  <a:srgbClr val="ff9933"/>
                </a:solidFill>
                <a:uFillTx/>
                <a:latin typeface="Arial Narrow"/>
                <a:ea typeface="華康細圓體"/>
              </a:rPr>
              <a:t>035917777</a:t>
            </a:r>
            <a:r>
              <a:rPr b="1" lang="zh-TW" sz="2600" spc="-1" strike="noStrike">
                <a:solidFill>
                  <a:srgbClr val="ff9933"/>
                </a:solidFill>
                <a:latin typeface="Arial Narrow"/>
                <a:ea typeface="華康細圓體"/>
              </a:rPr>
              <a:t>、</a:t>
            </a:r>
            <a:r>
              <a:rPr b="1" lang="zh-TW" sz="2600" spc="-1" strike="noStrike" u="sng">
                <a:solidFill>
                  <a:srgbClr val="ff9933"/>
                </a:solidFill>
                <a:uFillTx/>
                <a:latin typeface="Arial Narrow"/>
                <a:ea typeface="華康細圓體"/>
              </a:rPr>
              <a:t>03-5916140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28600" y="228600"/>
            <a:ext cx="861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eaeaea"/>
                </a:solidFill>
                <a:latin typeface="Arial Narrow"/>
                <a:ea typeface="華康細圓體"/>
              </a:rPr>
              <a:t>   </a:t>
            </a:r>
            <a:r>
              <a:rPr b="1" lang="en-US" sz="36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24</a:t>
            </a:r>
            <a:r>
              <a:rPr b="1" lang="zh-TW" sz="36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小時緊急諮詢服務流程與方式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10" name="DSC00003" descr=""/>
          <p:cNvPicPr/>
          <p:nvPr/>
        </p:nvPicPr>
        <p:blipFill>
          <a:blip r:embed="rId2"/>
          <a:stretch/>
        </p:blipFill>
        <p:spPr>
          <a:xfrm>
            <a:off x="5562720" y="1523880"/>
            <a:ext cx="2971800" cy="2229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066680" y="0"/>
            <a:ext cx="6934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00"/>
                </a:solidFill>
                <a:latin typeface="Times New Roman"/>
                <a:ea typeface="華康細圓體"/>
              </a:rPr>
              <a:t>北區毒災應變諮詢中心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1295280" y="971640"/>
            <a:ext cx="6553440" cy="49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0T01:20:15Z</dcterms:created>
  <dc:creator>aaa</dc:creator>
  <dc:description/>
  <dc:language>en-US</dc:language>
  <cp:lastModifiedBy>aaa</cp:lastModifiedBy>
  <dcterms:modified xsi:type="dcterms:W3CDTF">2002-06-10T01:09:27Z</dcterms:modified>
  <cp:revision>50</cp:revision>
  <dc:subject/>
  <dc:title>PowerPoint 簡報</dc:title>
</cp:coreProperties>
</file>