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1EF-7564-42F4-A030-5AB1CE0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2FD-FACE-4DEC-9270-D21CB2AE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9C0-542C-4BAF-8161-81786EDD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1F2-6732-460B-A8A7-8D484980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8EF-1080-450B-AC86-3F461362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D6F-A5E6-46DB-BED6-AE3F60AE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5C1-1884-4F30-900C-44328714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3B7-FF50-43CE-9052-C8A84871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51B-8F15-4861-A014-B9FB9A5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850-244B-4BE2-8892-41051C9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F9E-FD8C-433D-971A-83FAAC2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BF7-C051-4386-B680-111A659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A47F-6DF2-4BF2-87D7-D14AF495A88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4960" y="19051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毒化物災害案例分析與緊急應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陳政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 環安系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行政院環境保護署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合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南區毒災應變諮詢中心 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610-D89F-4DFF-B82C-2CCDD8783B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aichung9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6781680" cy="52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49A-BC91-4A04-9120-06A996990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9468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8288280" cy="20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9F7-7BDF-4766-B471-FF162107F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90552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766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0"/>
          <a:ext cx="4735800" cy="671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0"/>
                    <a:ext cx="473580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568-6925-44EE-8738-8461B65597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1-1" descr=""/>
          <p:cNvPicPr/>
          <p:nvPr/>
        </p:nvPicPr>
        <p:blipFill>
          <a:blip r:embed="rId3"/>
          <a:stretch/>
        </p:blipFill>
        <p:spPr>
          <a:xfrm>
            <a:off x="1214280" y="1566720"/>
            <a:ext cx="6320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F8C-ED49-4824-914C-9FD6E6B70A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7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氧乙烷毒性資料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主要是引起鼻子、喉嚨和呼吸道刺激及抑制中樞神經系統，如頭痛、噁心、嘔吐，若暴露於更高濃度可能發生嗜睡、頭痛、衰弱、動作不協調和喪失意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皮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在皮膚潮濕或油滑部位可能產生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眼睛：引發輕微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食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常溫常壓下是氣體，若食入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液體會引起抑制中樞神經系統，症狀如吸入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D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72mg/kg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鼠，吞食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C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800ppm/4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四小時，大鼠、吸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GI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之列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疑似人類致癌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560-8E63-4A07-BF90-51CC5E1FE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0240" y="175572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不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規模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型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毒災救災的標準操作步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聯防小組之溝通與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災後處理工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災救災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化物檢測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論與建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5A8-6B2D-4C9E-A447-29791F1695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240" y="17557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時性毒化物災害現場應變的協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於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災害通報後兩小時內到達災害現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行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現場毒化物採樣、分析、鑑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協助現場指揮與疏散、現場搶救技術諮詢、災後除污技術諮詢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性毒化物災害預防與應變技術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毒化物相關資訊與資料庫收集、提供毒化物災害資訊、毒化物採樣、分析與、鑑認技術的建立與輔導、災害應變演練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南區毒災諮詢應變中心長程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0D1-4771-4856-8863-89E01385D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640" y="1419120"/>
            <a:ext cx="7786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楷體"/>
                <a:ea typeface="標楷體"/>
              </a:rPr>
              <a:t>包含一般化學品安全相關問題、災害應變資訊、一般性安全衛生問題、法令規範、安全衛生改善措施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真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緊急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針對發生中的毒性化學物質洩漏、爆炸及火災之事故先提供電話諮詢服務，並於接到通報後兩小時內到達事故現場，提供救災之諮詢。緊急諮詢為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二十四小時服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日間有諮詢員輪值，夜間則透過轉接給待命之緊急員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敬請不吝指正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諮詢服務內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9B3-0E31-4A47-A4E1-C8C3C2B854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640" y="170172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/10/1996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台中港西碼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倉儲公司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/10/1997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新竹科學園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導體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機臺尾氣風管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/23/20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高雄市楠梓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太平洋醫療器材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環氧乙烷 鋼瓶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到場協助至災後處理完成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分析與緊急應變實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F27-2AD9-4EAB-B969-A512001EB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520" y="1523880"/>
            <a:ext cx="8381520" cy="4114440"/>
            <a:chOff x="533520" y="1523880"/>
            <a:chExt cx="8381520" cy="4114440"/>
          </a:xfrm>
        </p:grpSpPr>
        <p:sp>
          <p:nvSpPr>
            <p:cNvPr id="74" name=""/>
            <p:cNvSpPr/>
            <p:nvPr/>
          </p:nvSpPr>
          <p:spPr>
            <a:xfrm>
              <a:off x="533520" y="1523880"/>
              <a:ext cx="9032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36760" y="1523880"/>
              <a:ext cx="891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7760" y="1523880"/>
              <a:ext cx="12643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2440" y="1523880"/>
              <a:ext cx="53226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自南韓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Yosu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港出港後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8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海浬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氣爆火災撲滅後補漏，油料受海水污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232236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36760" y="232236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六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7760" y="232236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92440" y="232236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抵港靠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279288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36760" y="279288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7760" y="279288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5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92440" y="279288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完成接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3263760"/>
              <a:ext cx="9032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6760" y="3263760"/>
              <a:ext cx="8910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7760" y="3263760"/>
              <a:ext cx="12643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2440" y="3263760"/>
              <a:ext cx="53226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，收艙拆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含船體部分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br>
                <a:rPr sz="2000"/>
              </a:b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共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,0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餘噸，灌裝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389844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6760" y="389844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760" y="389844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2440" y="389844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吹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436932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36760" y="436932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7760" y="436932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2440" y="436932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前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分鐘卸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1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520" y="500400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36760" y="500400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7760" y="500400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2440" y="500400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後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9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DF1-A17D-4DF8-97D4-D28896E26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828800" y="1066680"/>
          <a:ext cx="4943520" cy="509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066680"/>
                    <a:ext cx="494352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24B-D95A-4E34-82E6-D889C66D6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523880"/>
            <a:ext cx="8152920" cy="4571640"/>
            <a:chOff x="609480" y="1523880"/>
            <a:chExt cx="8152920" cy="4571640"/>
          </a:xfrm>
        </p:grpSpPr>
        <p:sp>
          <p:nvSpPr>
            <p:cNvPr id="121" name=""/>
            <p:cNvSpPr/>
            <p:nvPr/>
          </p:nvSpPr>
          <p:spPr>
            <a:xfrm>
              <a:off x="609480" y="152388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8240" y="152388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55120" y="152388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4880" y="152388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2206440"/>
              <a:ext cx="878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8240" y="2206440"/>
              <a:ext cx="866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120" y="2206440"/>
              <a:ext cx="1229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880" y="2206440"/>
              <a:ext cx="5177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3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內部液面高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1.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次吹管，於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吹管時發生爆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33645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88240" y="33645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5120" y="33645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4880" y="33645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4047480"/>
              <a:ext cx="878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8240" y="4047480"/>
              <a:ext cx="866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55120" y="4047480"/>
              <a:ext cx="1229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7: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4880" y="4047480"/>
              <a:ext cx="5177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出港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裝載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污染油料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473040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8240" y="473040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5120" y="473040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8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4880" y="473040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於南堤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外海，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爆炸起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54129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88240" y="54129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55120" y="54129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9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4880" y="54129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F8B-83E5-47CB-ADF3-AC16BD7558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05320" y="144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2680" y="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76320"/>
          <a:ext cx="4238640" cy="678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76320"/>
                    <a:ext cx="4238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EDC-3479-4BD6-962E-D9935B9F51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2560" y="84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1371600"/>
            <a:ext cx="7923960" cy="4723920"/>
            <a:chOff x="533520" y="1371600"/>
            <a:chExt cx="7923960" cy="4723920"/>
          </a:xfrm>
        </p:grpSpPr>
        <p:sp>
          <p:nvSpPr>
            <p:cNvPr id="160" name=""/>
            <p:cNvSpPr/>
            <p:nvPr/>
          </p:nvSpPr>
          <p:spPr>
            <a:xfrm>
              <a:off x="556200" y="177336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istillation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2880" y="177336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0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77480" y="177336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00" y="21754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Initial boiling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12880" y="21754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480" y="21754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00" y="25776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End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2880" y="25776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480" y="25776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00" y="29797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P Gravity at 16.6     5.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2880" y="29797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480" y="29797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00" y="35326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Flash point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2880" y="35326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77480" y="35326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6200" y="3934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Colour, SAYBO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2880" y="3934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480" y="3934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 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00" y="433692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ulfur %W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2880" y="433692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26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7480" y="433692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00" y="473904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romatics by vol %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2880" y="473904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3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480" y="473904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200" y="5140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lphatics by vol %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2880" y="5140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8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7480" y="5140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00" y="55429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Viscosity Kinematics Cst (40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2880" y="55429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480" y="55429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33520" y="1371600"/>
              <a:ext cx="3901680" cy="401760"/>
              <a:chOff x="533520" y="1371600"/>
              <a:chExt cx="3901680" cy="40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556200" y="1371600"/>
                <a:ext cx="38563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Proper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3520" y="1371600"/>
                <a:ext cx="390168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35560" y="1371600"/>
              <a:ext cx="2109240" cy="401760"/>
              <a:chOff x="4435560" y="1371600"/>
              <a:chExt cx="2109240" cy="40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457520" y="1371600"/>
                <a:ext cx="20642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Test meth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35560" y="1371600"/>
                <a:ext cx="210924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545160" y="1371600"/>
              <a:ext cx="1912320" cy="401760"/>
              <a:chOff x="6545160" y="1371600"/>
              <a:chExt cx="1912320" cy="40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6567120" y="1371600"/>
                <a:ext cx="18676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HS-2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45160" y="1371600"/>
                <a:ext cx="191232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9E3-4DDF-4012-B21A-028F8FE9C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7:10:41Z</dcterms:created>
  <dc:creator>jami</dc:creator>
  <dc:description/>
  <dc:language>en-US</dc:language>
  <cp:lastModifiedBy>陳政任</cp:lastModifiedBy>
  <dcterms:modified xsi:type="dcterms:W3CDTF">2002-06-07T10:03:25Z</dcterms:modified>
  <cp:revision>72</cp:revision>
  <dc:subject/>
  <dc:title>PowerPoint 簡報</dc:title>
</cp:coreProperties>
</file>